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464-8E96-4573-9C37-511CC4E8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5BC-81C8-4C27-B88C-FC4BC65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D75-C6FE-421E-9E71-EF0D0DD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0E6-01F6-485B-8476-8A068CF9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1CF-C075-41B5-8254-F215BA8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A3A-516B-4D30-9659-FA819FBD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02C-D742-4DA8-93E1-18A12C06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8B3-0177-41AC-8B38-985A51D4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C38-0A26-4107-A004-9556A75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478-4E57-4CCF-8C60-2F52D2A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BD2-D981-4F22-BFEA-BCB92A3A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F8D-2CF9-42AB-881E-1875B60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4EE-1BAB-4117-96D1-52673C6B5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с двумя скругленными противолежащими углами 7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6480720" h="8784976">
                <a:moveTo>
                  <a:pt x="1080142" y="0"/>
                </a:moveTo>
                <a:lnTo>
                  <a:pt x="6480720" y="0"/>
                </a:lnTo>
                <a:lnTo>
                  <a:pt x="6480720" y="7704834"/>
                </a:lnTo>
                <a:lnTo>
                  <a:pt x="6480720" y="7704834"/>
                </a:lnTo>
                <a:arcTo wR="1080142" hR="1080142" stAng="0" swAng="5400003"/>
                <a:lnTo>
                  <a:pt x="0" y="8784976"/>
                </a:lnTo>
                <a:lnTo>
                  <a:pt x="0" y="1080142"/>
                </a:lnTo>
                <a:lnTo>
                  <a:pt x="0" y="1080142"/>
                </a:lnTo>
                <a:arcTo wR="1080142" hR="1080142" stAng="-10799997" swAng="5400003"/>
                <a:close/>
              </a:path>
            </a:pathLst>
          </a:custGeom>
          <a:solidFill>
            <a:srgbClr val="ffffff"/>
          </a:solidFill>
          <a:ln w="38160">
            <a:solidFill>
              <a:srgbClr val="558ed5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Picture 3" descr="http://images.clipartof.com/thumbnails/6958-Clipart-Picture-Of-A-Leaf-Mascot-Cartoon-Character-Waving-And-Pointing.jpg"/>
          <p:cNvPicPr/>
          <p:nvPr/>
        </p:nvPicPr>
        <p:blipFill>
          <a:blip r:embed="rId2"/>
          <a:srcRect l="0" t="0" r="17147" b="0"/>
          <a:stretch/>
        </p:blipFill>
        <p:spPr>
          <a:xfrm>
            <a:off x="4076640" y="7885080"/>
            <a:ext cx="647640" cy="960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http://images.clipartof.com/thumbnails/6961-Clipart-Picture-Of-A-Leaf-Mascot-Cartoon-Character-Peeking-Around-A-Corner.jpg"/>
          <p:cNvPicPr/>
          <p:nvPr/>
        </p:nvPicPr>
        <p:blipFill>
          <a:blip r:embed="rId3"/>
          <a:srcRect l="0" t="0" r="0" b="13159"/>
          <a:stretch/>
        </p:blipFill>
        <p:spPr>
          <a:xfrm>
            <a:off x="333360" y="539640"/>
            <a:ext cx="934920" cy="89388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0" descr="caf7b24bfe1e.png"/>
          <p:cNvPicPr/>
          <p:nvPr/>
        </p:nvPicPr>
        <p:blipFill>
          <a:blip r:embed="rId4"/>
          <a:stretch/>
        </p:blipFill>
        <p:spPr>
          <a:xfrm>
            <a:off x="4724280" y="7236000"/>
            <a:ext cx="1228680" cy="16700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2" descr="603a22ab6e9f.jpg"/>
          <p:cNvPicPr/>
          <p:nvPr/>
        </p:nvPicPr>
        <p:blipFill>
          <a:blip r:embed="rId5"/>
          <a:stretch/>
        </p:blipFill>
        <p:spPr>
          <a:xfrm>
            <a:off x="1844640" y="7451640"/>
            <a:ext cx="2160720" cy="151920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51" descr="novgod305.jpg"/>
          <p:cNvPicPr/>
          <p:nvPr/>
        </p:nvPicPr>
        <p:blipFill>
          <a:blip r:embed="rId6"/>
          <a:srcRect l="0" t="37116" r="0" b="0"/>
          <a:stretch/>
        </p:blipFill>
        <p:spPr>
          <a:xfrm>
            <a:off x="1341360" y="250920"/>
            <a:ext cx="3743280" cy="10080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59" descr="b69e438364c6.png"/>
          <p:cNvPicPr/>
          <p:nvPr/>
        </p:nvPicPr>
        <p:blipFill>
          <a:blip r:embed="rId7"/>
          <a:srcRect l="0" t="831" r="0" b="0"/>
          <a:stretch/>
        </p:blipFill>
        <p:spPr>
          <a:xfrm>
            <a:off x="4867200" y="179280"/>
            <a:ext cx="1835280" cy="871380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60" descr="b69e438364c6.png"/>
          <p:cNvPicPr/>
          <p:nvPr/>
        </p:nvPicPr>
        <p:blipFill>
          <a:blip r:embed="rId8"/>
          <a:srcRect l="0" t="0" r="0" b="831"/>
          <a:stretch/>
        </p:blipFill>
        <p:spPr>
          <a:xfrm>
            <a:off x="189000" y="1547640"/>
            <a:ext cx="1833480" cy="741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zumniki.ru/zagadki_pro_mecyacy_goda.html" TargetMode="External"/><Relationship Id="rId2" Type="http://schemas.openxmlformats.org/officeDocument/2006/relationships/hyperlink" Target="http://images.clipartof.com/thumbnails/6961-Clipart-Picture-Of-A-Leaf-Mascot-Cartoon-Character-Peeking-Around-A-Corner.jpg" TargetMode="External"/><Relationship Id="rId3" Type="http://schemas.openxmlformats.org/officeDocument/2006/relationships/hyperlink" Target="http://images.clipartof.com/thumbnails/6958-Clipart-Picture-Of-A-Leaf-Mascot-Cartoon-Character-Waving-And-Pointing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1052640" y="1258920"/>
            <a:ext cx="48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5000" y="3347640"/>
            <a:ext cx="5469120" cy="24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Уголок природы «Декабрь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844640" y="6300720"/>
            <a:ext cx="327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3920" y="971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07920" y="1547280"/>
            <a:ext cx="4321440" cy="66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A%D0%B0%D0%BB%D0%B5%D0%BD%D0%B4%D0%B0%D1%80%D1%8C%20%D0%BF%D1%80%D0%B8%D1%80%D0%BE%D0%B4%D1%8B%20%D0%B4%D0%B5%D0%BA%D0%B0%D0%B1%D1%80%D1%8C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F%D1%80%D0%B8%D1%80%D0%BE%D0%B4%D0%B0%20%D0%B7%D0%B8%D0%BC%D0%BE%D0%B9%20%D0%B4%D0%BB%D1%8F%20%D0%B4%D0%B5%D1%82%D0%B5%D0%B9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D%D0%B0%D1%80%D0%BE%D0%B4%D0%BD%D1%8B%D0%B9%20%D0%BA%D0%B0%D0%BB%D0%B5%D0%BD%D0%B4%D0%B0%D1%80%D1%8C%20%D0%B4%D0%B5%D0%BA%D0%B0%D0%B1%D1%80%D1%8C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razumniki.ru/zagadki_pro_mecyacy_goda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Monotype Corsiva"/>
              </a:rPr>
              <a:t>Картинки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otype Corsiva"/>
              </a:rPr>
              <a:t>Листик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images.clipartof.com/thumbnails/6961-Clipart-Picture-Of-A-Leaf-Mascot-Cartoon-Character-Peeking-Around-A-Corner.jp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otype Corsiva"/>
              </a:rPr>
              <a:t>Листик 1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images.clipartof.com/thumbnails/6958-Clipart-Picture-Of-A-Leaf-Mascot-Cartoon-Character-Waving-And-Pointing.jp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otype Corsiva"/>
              </a:rPr>
              <a:t>Ёлка </a:t>
            </a:r>
            <a:r>
              <a:rPr b="0" lang="en-US" sz="900" spc="-1" strike="noStrike">
                <a:solidFill>
                  <a:srgbClr val="000000"/>
                </a:solidFill>
                <a:latin typeface="Monotype Corsiva"/>
              </a:rPr>
              <a:t>http://i034.radikal.ru/0711/05/caf7b24bfe1e.p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otype Corsiva"/>
              </a:rPr>
              <a:t>Девочка и мальчик </a:t>
            </a:r>
            <a:r>
              <a:rPr b="0" lang="en-US" sz="900" spc="-1" strike="noStrike">
                <a:solidFill>
                  <a:srgbClr val="000000"/>
                </a:solidFill>
                <a:latin typeface="Monotype Corsiva"/>
              </a:rPr>
              <a:t>http://s41.radikal.ru/i091/0811/83/603a22ab6e9f.p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otype Corsiva"/>
              </a:rPr>
              <a:t>Виньетка </a:t>
            </a:r>
            <a:r>
              <a:rPr b="0" lang="en-US" sz="900" spc="-1" strike="noStrike">
                <a:solidFill>
                  <a:srgbClr val="000000"/>
                </a:solidFill>
                <a:latin typeface="Monotype Corsiva"/>
              </a:rPr>
              <a:t>http://s06.radikal.ru/i179/1012/be/b69e438364c6.p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otype Corsiva"/>
              </a:rPr>
              <a:t>Виньетка 1 </a:t>
            </a:r>
            <a:r>
              <a:rPr b="0" lang="en-US" sz="900" spc="-1" strike="noStrike">
                <a:solidFill>
                  <a:srgbClr val="000000"/>
                </a:solidFill>
                <a:latin typeface="Monotype Corsiva"/>
              </a:rPr>
              <a:t>http://lenagold.narod.ru/fon/clipart/n/nogo/novgod305.p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916280" y="2484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Декабр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81000" y="35560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 -10° C до -5° C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ден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7 ч. 12 мин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нег, заморозки, ледостав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имние птицы-гости пуночка, снегирь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197000" y="1835280"/>
            <a:ext cx="387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неделя - II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розы неустойчивые, большое выпадение снежных осадков от 20 до 40с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неделя - IV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амые короткие световые дни в году, солнце берет поворот в сторону прироста световых дн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714680" y="1042920"/>
            <a:ext cx="3429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кабрь - Студене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стужа и холод становятся долгими спутниками погоды. Смотри сколько выпало снега! Снег белый, пушистый и еще липкий, можно лепить снежки. Вот-вот и настанут морозы, станет еще холодней. А вот улицы весело играют нарядными огоньками. Совсем праздничное настроение, скоро новый год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1916280" y="1216800"/>
            <a:ext cx="3678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, в декабре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ревья в сереб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у речку, словно в сказке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очь вымостил мороз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ил коньки, салаз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ку из лесу приве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ка плакала сначала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домашнего теп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плакать перестал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ышала, ожи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ть дрожат ее иголки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твях огни зажглис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 лесенке, по ёлке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ньки взбегают ввы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щут золотом хлопушки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бром звезду зажёг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ежавший до верхушк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смелый огонё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рошёл, как день вчерашний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Москвою в этот час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ьют часы Кремлевской башн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салют - двенадцать ра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арша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714680" y="1258920"/>
            <a:ext cx="3443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мы делаем в декаб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ь снежный месяц. Что ни день, то снегопад. А сколько всего можно сделать во дворе. Можно слепить снежную бабу, можно построить крепость из снега, а можно залить водой лед и кататься на коньках. Только временами в декабре могут наступать оттепели и снег становится мокрым и липким, но бывают и крепкие морозы. И, главное, все ближе Новый Год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мы празднуем в декаб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декабр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Во многих странах в этот день отмечается праздник детского телевидения и радиовещания. Может это и наш маленький праздник нашего детского раздела про времена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557360" y="1116000"/>
            <a:ext cx="360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кабрь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морозами и выпадением большого количества снега. По народным приметам по погоде смотрели с самых первых чисел декабря, о том какая будет зима, суровая, мягкая и долго ль быть морозам, либо оттепелей ждать. Хотя с Ведения частенько случаются оттепели, морозы скоро возвращаются на Варюху с еще большим нап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в народном календаре наступает еще с ноября, но в начале декабря по приметам могут быть ледяные морозы, а могут случаться оттепели. На декабрь приходится солнцеворот, дни короткие, ночи длинные, стуженные, а по трескучим морозам можно было и суровость зимы оценить и к еще более сильным заморозкам подготов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197000" y="1258920"/>
            <a:ext cx="3960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кабрь в народном календар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има не лето - в шубу одето.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имнее солнышко сквозь слезы улыбается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екабрь замостит, декабрь загвоздит, и саням дорогу даст.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екабрь глаз снежком тешит, да ухо морозом дерет.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Если декабрь морозный и выпало множенько снега, то год будет плодородным.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49360" y="1042920"/>
            <a:ext cx="203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Monotype Corsiva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1125360" y="1835280"/>
            <a:ext cx="3429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-ка ребят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в этой-вот загадк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его всех дней короч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ночей длиннее ноч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я и на луг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есны легли снег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месяц наш пройд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стречаем Новый Год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2421000" y="507672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оду конец и начало зиме!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так загадку задали м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ы и вьюг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ег на двор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в г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 зима в 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0:03:54Z</dcterms:created>
  <dc:creator>Компас</dc:creator>
  <dc:description/>
  <dc:language>en-US</dc:language>
  <cp:lastModifiedBy>Компас</cp:lastModifiedBy>
  <dcterms:modified xsi:type="dcterms:W3CDTF">2012-07-11T12:58:19Z</dcterms:modified>
  <cp:revision>8</cp:revision>
  <dc:subject/>
  <dc:title>Слайд 1</dc:title>
</cp:coreProperties>
</file>