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1CF-E6A7-4E9F-9636-0B5EE00E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C5F-9446-4CC8-AE7B-BFB737D2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BE0-3156-4FFA-AE18-E0442490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4E1-9FFF-49A5-92A1-2DF54D03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29F-6E52-472F-9AEC-9E282485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263-DE33-4DB3-823B-8D489AA2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310-C96C-4AFC-A633-61F5CE45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F93-F6A2-4E19-ABE5-78DD60FE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4A8-99D6-4C3F-9C6D-4A835DF3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903-55E4-465E-9907-3F4DBC13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A84-BECE-4811-8DA0-C9AAB024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9A7-8898-475A-8DA8-710B74E2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1.xml"/><Relationship Id="rId27" Type="http://schemas.openxmlformats.org/officeDocument/2006/relationships/slideLayout" Target="../slideLayouts/slideLayout2.xml"/><Relationship Id="rId28" Type="http://schemas.openxmlformats.org/officeDocument/2006/relationships/slideLayout" Target="../slideLayouts/slideLayout3.xml"/><Relationship Id="rId29" Type="http://schemas.openxmlformats.org/officeDocument/2006/relationships/slideLayout" Target="../slideLayouts/slideLayout4.xml"/><Relationship Id="rId30" Type="http://schemas.openxmlformats.org/officeDocument/2006/relationships/slideLayout" Target="../slideLayouts/slideLayout5.xml"/><Relationship Id="rId31" Type="http://schemas.openxmlformats.org/officeDocument/2006/relationships/slideLayout" Target="../slideLayouts/slideLayout6.xml"/><Relationship Id="rId32" Type="http://schemas.openxmlformats.org/officeDocument/2006/relationships/slideLayout" Target="../slideLayouts/slideLayout7.xml"/><Relationship Id="rId33" Type="http://schemas.openxmlformats.org/officeDocument/2006/relationships/slideLayout" Target="../slideLayouts/slideLayout8.xml"/><Relationship Id="rId34" Type="http://schemas.openxmlformats.org/officeDocument/2006/relationships/slideLayout" Target="../slideLayouts/slideLayout9.xml"/><Relationship Id="rId35" Type="http://schemas.openxmlformats.org/officeDocument/2006/relationships/slideLayout" Target="../slideLayouts/slideLayout10.xml"/><Relationship Id="rId36" Type="http://schemas.openxmlformats.org/officeDocument/2006/relationships/slideLayout" Target="../slideLayouts/slideLayout11.xml"/><Relationship Id="rId3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31E8-BC0A-4067-B10E-D7B9537DA5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9720" y="8897760"/>
            <a:ext cx="147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7"/>
          <p:cNvSpPr/>
          <p:nvPr/>
        </p:nvSpPr>
        <p:spPr>
          <a:xfrm>
            <a:off x="189000" y="179280"/>
            <a:ext cx="6480000" cy="8785440"/>
          </a:xfrm>
          <a:custGeom>
            <a:avLst/>
            <a:gdLst>
              <a:gd name="textAreaLeft" fmla="*/ 316080 w 6480000"/>
              <a:gd name="textAreaRight" fmla="*/ 6163920 w 6480000"/>
              <a:gd name="textAreaTop" fmla="*/ 316080 h 8785440"/>
              <a:gd name="textAreaBottom" fmla="*/ 8469360 h 8785440"/>
            </a:gdLst>
            <a:ahLst/>
            <a:rect l="textAreaLeft" t="textAreaTop" r="textAreaRight" b="textAreaBottom"/>
            <a:pathLst>
              <a:path w="21600" h="29284">
                <a:moveTo>
                  <a:pt x="3600" y="0"/>
                </a:moveTo>
                <a:arcTo wR="3600" hR="3600" stAng="16200000" swAng="-5400000"/>
                <a:lnTo>
                  <a:pt x="0" y="25684"/>
                </a:lnTo>
                <a:arcTo wR="3600" hR="3600" stAng="10800000" swAng="-5400000"/>
                <a:lnTo>
                  <a:pt x="18000" y="29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Рисунок 9" descr="6939-Clipart-Picture-Of-A-Leaf-Mascot-Cartoon-Character-Sitting.jpg"/>
          <p:cNvPicPr/>
          <p:nvPr/>
        </p:nvPicPr>
        <p:blipFill>
          <a:blip r:embed="rId2"/>
          <a:stretch/>
        </p:blipFill>
        <p:spPr>
          <a:xfrm>
            <a:off x="5445000" y="395280"/>
            <a:ext cx="1059120" cy="145728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10" descr="tani08.jpg"/>
          <p:cNvPicPr/>
          <p:nvPr/>
        </p:nvPicPr>
        <p:blipFill>
          <a:blip r:embed="rId3"/>
          <a:stretch/>
        </p:blipFill>
        <p:spPr>
          <a:xfrm>
            <a:off x="1557360" y="7051680"/>
            <a:ext cx="1942920" cy="175104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8" descr="6953-Clipart-Picture-Of-A-Leaf-Mascot-Cartoon-Character-Using-A-Pointer-Stick.jpg"/>
          <p:cNvPicPr/>
          <p:nvPr/>
        </p:nvPicPr>
        <p:blipFill>
          <a:blip r:embed="rId4"/>
          <a:stretch/>
        </p:blipFill>
        <p:spPr>
          <a:xfrm>
            <a:off x="620640" y="7380360"/>
            <a:ext cx="1238400" cy="12459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8" descr="sneg49.jpg"/>
          <p:cNvPicPr/>
          <p:nvPr/>
        </p:nvPicPr>
        <p:blipFill>
          <a:blip r:embed="rId5"/>
          <a:stretch/>
        </p:blipFill>
        <p:spPr>
          <a:xfrm rot="18583800">
            <a:off x="4831560" y="548640"/>
            <a:ext cx="792000" cy="83808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9" descr="sneg49.jpg"/>
          <p:cNvPicPr/>
          <p:nvPr/>
        </p:nvPicPr>
        <p:blipFill>
          <a:blip r:embed="rId6"/>
          <a:stretch/>
        </p:blipFill>
        <p:spPr>
          <a:xfrm rot="2604000">
            <a:off x="4040280" y="156960"/>
            <a:ext cx="792000" cy="83808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20" descr="sneg49.jpg"/>
          <p:cNvPicPr/>
          <p:nvPr/>
        </p:nvPicPr>
        <p:blipFill>
          <a:blip r:embed="rId7"/>
          <a:stretch/>
        </p:blipFill>
        <p:spPr>
          <a:xfrm rot="3169800">
            <a:off x="3534840" y="8156520"/>
            <a:ext cx="790560" cy="83844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21" descr="sneg49.jpg"/>
          <p:cNvPicPr/>
          <p:nvPr/>
        </p:nvPicPr>
        <p:blipFill>
          <a:blip r:embed="rId8"/>
          <a:stretch/>
        </p:blipFill>
        <p:spPr>
          <a:xfrm rot="3948600">
            <a:off x="3072240" y="113400"/>
            <a:ext cx="792360" cy="83808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22" descr="sneg49.jpg"/>
          <p:cNvPicPr/>
          <p:nvPr/>
        </p:nvPicPr>
        <p:blipFill>
          <a:blip r:embed="rId9"/>
          <a:stretch/>
        </p:blipFill>
        <p:spPr>
          <a:xfrm rot="14259000">
            <a:off x="2158560" y="139320"/>
            <a:ext cx="790560" cy="838080"/>
          </a:xfrm>
          <a:prstGeom prst="rect">
            <a:avLst/>
          </a:prstGeom>
          <a:ln w="0">
            <a:noFill/>
          </a:ln>
        </p:spPr>
      </p:pic>
      <p:pic>
        <p:nvPicPr>
          <p:cNvPr id="15" name="Рисунок 23" descr="sneg49.jpg"/>
          <p:cNvPicPr/>
          <p:nvPr/>
        </p:nvPicPr>
        <p:blipFill>
          <a:blip r:embed="rId10"/>
          <a:stretch/>
        </p:blipFill>
        <p:spPr>
          <a:xfrm rot="19153200">
            <a:off x="177480" y="2424240"/>
            <a:ext cx="790560" cy="838080"/>
          </a:xfrm>
          <a:prstGeom prst="rect">
            <a:avLst/>
          </a:prstGeom>
          <a:ln w="0">
            <a:noFill/>
          </a:ln>
        </p:spPr>
      </p:pic>
      <p:pic>
        <p:nvPicPr>
          <p:cNvPr id="16" name="Рисунок 24" descr="sneg49.jpg"/>
          <p:cNvPicPr/>
          <p:nvPr/>
        </p:nvPicPr>
        <p:blipFill>
          <a:blip r:embed="rId11"/>
          <a:stretch/>
        </p:blipFill>
        <p:spPr>
          <a:xfrm rot="19416000">
            <a:off x="171360" y="1412640"/>
            <a:ext cx="792360" cy="838080"/>
          </a:xfrm>
          <a:prstGeom prst="rect">
            <a:avLst/>
          </a:prstGeom>
          <a:ln w="0">
            <a:noFill/>
          </a:ln>
        </p:spPr>
      </p:pic>
      <p:pic>
        <p:nvPicPr>
          <p:cNvPr id="17" name="Рисунок 25" descr="sneg49.jpg"/>
          <p:cNvPicPr/>
          <p:nvPr/>
        </p:nvPicPr>
        <p:blipFill>
          <a:blip r:embed="rId12"/>
          <a:stretch/>
        </p:blipFill>
        <p:spPr>
          <a:xfrm rot="14008200">
            <a:off x="4613040" y="8157960"/>
            <a:ext cx="792360" cy="836640"/>
          </a:xfrm>
          <a:prstGeom prst="rect">
            <a:avLst/>
          </a:prstGeom>
          <a:ln w="0">
            <a:noFill/>
          </a:ln>
        </p:spPr>
      </p:pic>
      <p:pic>
        <p:nvPicPr>
          <p:cNvPr id="18" name="Рисунок 26" descr="sneg49.jpg"/>
          <p:cNvPicPr/>
          <p:nvPr/>
        </p:nvPicPr>
        <p:blipFill>
          <a:blip r:embed="rId13"/>
          <a:stretch/>
        </p:blipFill>
        <p:spPr>
          <a:xfrm rot="15067200">
            <a:off x="1180800" y="92160"/>
            <a:ext cx="792000" cy="836640"/>
          </a:xfrm>
          <a:prstGeom prst="rect">
            <a:avLst/>
          </a:prstGeom>
          <a:ln w="0">
            <a:noFill/>
          </a:ln>
        </p:spPr>
      </p:pic>
      <p:pic>
        <p:nvPicPr>
          <p:cNvPr id="19" name="Рисунок 27" descr="sneg49.jpg"/>
          <p:cNvPicPr/>
          <p:nvPr/>
        </p:nvPicPr>
        <p:blipFill>
          <a:blip r:embed="rId14"/>
          <a:stretch/>
        </p:blipFill>
        <p:spPr>
          <a:xfrm>
            <a:off x="5661000" y="7956720"/>
            <a:ext cx="792360" cy="838080"/>
          </a:xfrm>
          <a:prstGeom prst="rect">
            <a:avLst/>
          </a:prstGeom>
          <a:ln w="0">
            <a:noFill/>
          </a:ln>
        </p:spPr>
      </p:pic>
      <p:pic>
        <p:nvPicPr>
          <p:cNvPr id="20" name="Рисунок 28" descr="sneg49.jpg"/>
          <p:cNvPicPr/>
          <p:nvPr/>
        </p:nvPicPr>
        <p:blipFill>
          <a:blip r:embed="rId15"/>
          <a:stretch/>
        </p:blipFill>
        <p:spPr>
          <a:xfrm>
            <a:off x="333360" y="395280"/>
            <a:ext cx="790560" cy="838080"/>
          </a:xfrm>
          <a:prstGeom prst="rect">
            <a:avLst/>
          </a:prstGeom>
          <a:ln w="0">
            <a:noFill/>
          </a:ln>
        </p:spPr>
      </p:pic>
      <p:pic>
        <p:nvPicPr>
          <p:cNvPr id="21" name="Рисунок 29" descr="sneg49.jpg"/>
          <p:cNvPicPr/>
          <p:nvPr/>
        </p:nvPicPr>
        <p:blipFill>
          <a:blip r:embed="rId16"/>
          <a:stretch/>
        </p:blipFill>
        <p:spPr>
          <a:xfrm rot="19153200">
            <a:off x="5889240" y="3936960"/>
            <a:ext cx="790560" cy="838080"/>
          </a:xfrm>
          <a:prstGeom prst="rect">
            <a:avLst/>
          </a:prstGeom>
          <a:ln w="0">
            <a:noFill/>
          </a:ln>
        </p:spPr>
      </p:pic>
      <p:pic>
        <p:nvPicPr>
          <p:cNvPr id="22" name="Рисунок 30" descr="sneg49.jpg"/>
          <p:cNvPicPr/>
          <p:nvPr/>
        </p:nvPicPr>
        <p:blipFill>
          <a:blip r:embed="rId17"/>
          <a:stretch/>
        </p:blipFill>
        <p:spPr>
          <a:xfrm rot="19153200">
            <a:off x="5889600" y="3000240"/>
            <a:ext cx="790560" cy="838440"/>
          </a:xfrm>
          <a:prstGeom prst="rect">
            <a:avLst/>
          </a:prstGeom>
          <a:ln w="0">
            <a:noFill/>
          </a:ln>
        </p:spPr>
      </p:pic>
      <p:pic>
        <p:nvPicPr>
          <p:cNvPr id="23" name="Рисунок 31" descr="sneg49.jpg"/>
          <p:cNvPicPr/>
          <p:nvPr/>
        </p:nvPicPr>
        <p:blipFill>
          <a:blip r:embed="rId18"/>
          <a:stretch/>
        </p:blipFill>
        <p:spPr>
          <a:xfrm rot="19153200">
            <a:off x="5889600" y="1992240"/>
            <a:ext cx="790560" cy="838440"/>
          </a:xfrm>
          <a:prstGeom prst="rect">
            <a:avLst/>
          </a:prstGeom>
          <a:ln w="0">
            <a:noFill/>
          </a:ln>
        </p:spPr>
      </p:pic>
      <p:pic>
        <p:nvPicPr>
          <p:cNvPr id="24" name="Рисунок 32" descr="sneg49.jpg"/>
          <p:cNvPicPr/>
          <p:nvPr/>
        </p:nvPicPr>
        <p:blipFill>
          <a:blip r:embed="rId19"/>
          <a:stretch/>
        </p:blipFill>
        <p:spPr>
          <a:xfrm rot="19153200">
            <a:off x="177480" y="3432240"/>
            <a:ext cx="790560" cy="838080"/>
          </a:xfrm>
          <a:prstGeom prst="rect">
            <a:avLst/>
          </a:prstGeom>
          <a:ln w="0">
            <a:noFill/>
          </a:ln>
        </p:spPr>
      </p:pic>
      <p:pic>
        <p:nvPicPr>
          <p:cNvPr id="25" name="Рисунок 33" descr="sneg49.jpg"/>
          <p:cNvPicPr/>
          <p:nvPr/>
        </p:nvPicPr>
        <p:blipFill>
          <a:blip r:embed="rId20"/>
          <a:stretch/>
        </p:blipFill>
        <p:spPr>
          <a:xfrm rot="19153200">
            <a:off x="5889600" y="4944960"/>
            <a:ext cx="790560" cy="838440"/>
          </a:xfrm>
          <a:prstGeom prst="rect">
            <a:avLst/>
          </a:prstGeom>
          <a:ln w="0">
            <a:noFill/>
          </a:ln>
        </p:spPr>
      </p:pic>
      <p:pic>
        <p:nvPicPr>
          <p:cNvPr id="26" name="Рисунок 34" descr="sneg49.jpg"/>
          <p:cNvPicPr/>
          <p:nvPr/>
        </p:nvPicPr>
        <p:blipFill>
          <a:blip r:embed="rId21"/>
          <a:stretch/>
        </p:blipFill>
        <p:spPr>
          <a:xfrm rot="19153200">
            <a:off x="5889600" y="5952960"/>
            <a:ext cx="790560" cy="838440"/>
          </a:xfrm>
          <a:prstGeom prst="rect">
            <a:avLst/>
          </a:prstGeom>
          <a:ln w="0">
            <a:noFill/>
          </a:ln>
        </p:spPr>
      </p:pic>
      <p:pic>
        <p:nvPicPr>
          <p:cNvPr id="27" name="Рисунок 35" descr="sneg49.jpg"/>
          <p:cNvPicPr/>
          <p:nvPr/>
        </p:nvPicPr>
        <p:blipFill>
          <a:blip r:embed="rId22"/>
          <a:stretch/>
        </p:blipFill>
        <p:spPr>
          <a:xfrm rot="19153200">
            <a:off x="5889240" y="6961320"/>
            <a:ext cx="790560" cy="838080"/>
          </a:xfrm>
          <a:prstGeom prst="rect">
            <a:avLst/>
          </a:prstGeom>
          <a:ln w="0">
            <a:noFill/>
          </a:ln>
        </p:spPr>
      </p:pic>
      <p:pic>
        <p:nvPicPr>
          <p:cNvPr id="28" name="Рисунок 36" descr="sneg49.jpg"/>
          <p:cNvPicPr/>
          <p:nvPr/>
        </p:nvPicPr>
        <p:blipFill>
          <a:blip r:embed="rId23"/>
          <a:stretch/>
        </p:blipFill>
        <p:spPr>
          <a:xfrm rot="19153200">
            <a:off x="177480" y="4368960"/>
            <a:ext cx="790560" cy="838080"/>
          </a:xfrm>
          <a:prstGeom prst="rect">
            <a:avLst/>
          </a:prstGeom>
          <a:ln w="0">
            <a:noFill/>
          </a:ln>
        </p:spPr>
      </p:pic>
      <p:pic>
        <p:nvPicPr>
          <p:cNvPr id="29" name="Рисунок 37" descr="sneg49.jpg"/>
          <p:cNvPicPr/>
          <p:nvPr/>
        </p:nvPicPr>
        <p:blipFill>
          <a:blip r:embed="rId24"/>
          <a:stretch/>
        </p:blipFill>
        <p:spPr>
          <a:xfrm rot="19153200">
            <a:off x="177480" y="5376960"/>
            <a:ext cx="790560" cy="838080"/>
          </a:xfrm>
          <a:prstGeom prst="rect">
            <a:avLst/>
          </a:prstGeom>
          <a:ln w="0">
            <a:noFill/>
          </a:ln>
        </p:spPr>
      </p:pic>
      <p:pic>
        <p:nvPicPr>
          <p:cNvPr id="30" name="Рисунок 38" descr="sneg49.jpg"/>
          <p:cNvPicPr/>
          <p:nvPr/>
        </p:nvPicPr>
        <p:blipFill>
          <a:blip r:embed="rId25"/>
          <a:stretch/>
        </p:blipFill>
        <p:spPr>
          <a:xfrm rot="19153200">
            <a:off x="177480" y="6384960"/>
            <a:ext cx="79056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6"/>
    <p:sldLayoutId id="2147483650" r:id="rId27"/>
    <p:sldLayoutId id="2147483651" r:id="rId28"/>
    <p:sldLayoutId id="2147483652" r:id="rId29"/>
    <p:sldLayoutId id="2147483653" r:id="rId30"/>
    <p:sldLayoutId id="2147483654" r:id="rId31"/>
    <p:sldLayoutId id="2147483655" r:id="rId32"/>
    <p:sldLayoutId id="2147483656" r:id="rId33"/>
    <p:sldLayoutId id="2147483657" r:id="rId34"/>
    <p:sldLayoutId id="2147483658" r:id="rId35"/>
    <p:sldLayoutId id="2147483659" r:id="rId36"/>
    <p:sldLayoutId id="2147483660" r:id="rId3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azumniki.ru/zagadki_pro_mecyacy_goda.html" TargetMode="External"/><Relationship Id="rId2" Type="http://schemas.openxmlformats.org/officeDocument/2006/relationships/slide" Target="slide4.xml"/><Relationship Id="rId3" Type="http://schemas.openxmlformats.org/officeDocument/2006/relationships/hyperlink" Target="http://images.clipartof.com/thumbnails/6953-Clipart-Picture-Of-A-Leaf-Mascot-Cartoon-Character-Using-A-Pointer-Stick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052640" y="971640"/>
            <a:ext cx="48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МК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Искитим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5000" y="2626920"/>
            <a:ext cx="54691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Monotype Corsiva"/>
              </a:rPr>
              <a:t>Уголок природы «Февраль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3141720" y="7093080"/>
            <a:ext cx="30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Автор-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2012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52640" y="684000"/>
            <a:ext cx="4248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Monotype Corsiva"/>
              </a:rPr>
              <a:t>Используемые источни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6640" y="1258920"/>
            <a:ext cx="5400720" cy="61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точники информ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A%D0%B0%D0%BB%D0%B5%D0%BD%D0%B4%D0%B0%D1%80%D1%8C%20%D0%BF%D1%80%D0%B8%D1%80%D0%BE%D0%B4%D1%8B%20%D1%84%D0%B5%D0%B2%D1%80%D0%B0%D0%BB%D1%8C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F%D1%80%D0%B8%D1%80%D0%BE%D0%B4%D0%B0%20%D0%B7%D0%B8%D0%BC%D0%BE%D0%B9%20%D0%B4%D0%BB%D1%8F%20%D0%B4%D0%B5%D1%82%D0%B5%D0%B9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D%D0%B0%D1%80%D0%BE%D0%B4%D0%BD%D1%8B%D0%B9%20%D0%BA%D0%B0%D0%BB%D0%B5%D0%BD%D0%B4%D0%B0%D1%80%D1%8C%20%D1%84%D0%B5%D0%B2%D1%80%D0%B0%D0%BB%D1%8C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www.razumniki.ru/zagadki_pro_mecyacy_goda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2" action="ppaction://hlinksldjump"/>
              </a:rPr>
              <a:t>http://xn----8sbiecm6bhdx8i.xn--p1ai/%D1%80%D0%B0%D1%81%D1%81%D0%BA%D0%B0%D0%B7%D1%8B%20%D0%BE%20%D0%B7%D0%B8%D0%BC%D0%B5.html#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notype Corsiva"/>
              </a:rPr>
              <a:t>Картинк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Листик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images.clipartof.com/thumbnails/6953-Clipart-Picture-Of-A-Leaf-Mascot-Cartoon-Character-Using-A-Pointer-Stick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Листик 1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images.clipartof.com/thumbnails/6939-Clipart-Picture-Of-A-Leaf-Mascot-Cartoon-Character-Sitting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Снеговик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www.lenagold.ru/fon/clipart/t/tani/tani0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Снежинки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www.lenagold.ru/fon/clipart/s/sneg/sneg49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льчик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xn----8sbiecm6bhdx8i.xn--p1ai/images/zima_02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1916280" y="755640"/>
            <a:ext cx="27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Monotype Corsiva"/>
              </a:rPr>
              <a:t>Февра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981000" y="154764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оздух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т -14° C до -6° C;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й день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9 ч. 42 мин;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нег, морозы, вьюги, метели;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я природ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зревание семян ели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836640" y="3419640"/>
            <a:ext cx="532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неделя - II недел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ильные метели, порою вьюги, температура скачет от холодных дней к резким похолоданиям и морозам до - 25° C и ниже градусов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неделя - IV недел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лнце чаще появляется на небосклоне и начинает согревать, хотя сила света и тепла лучей еще мала, но дни становятся свет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620640" y="1042920"/>
            <a:ext cx="554508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евраль - Бокогрей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еще слабое солнце начинает пригревать щеки. Все дольше солнце задерживается на небосклоне. Чувствуешь?! Едва заметное тепло исходит от ярких лучей февраьского солнца. А вот и послышался стук капели - это сосульки заслезились водой, разогретые лучами пригревающего солнца. Еще немного и наступит праздник Масленицы. А вслед - придет весна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413000" y="1042920"/>
            <a:ext cx="460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ют ветры в феврале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ют в трубах громко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йкой мчится по земле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гкая позём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аясь, мчатся вдаль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летов звенья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азднует февраль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ии рожден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zima_02.jpg"/>
          <p:cNvPicPr/>
          <p:nvPr/>
        </p:nvPicPr>
        <p:blipFill>
          <a:blip r:embed="rId1"/>
          <a:stretch/>
        </p:blipFill>
        <p:spPr>
          <a:xfrm>
            <a:off x="3860640" y="6156360"/>
            <a:ext cx="201636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907920" y="826920"/>
            <a:ext cx="52578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мы делаем в февра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ые сосульки переливаются в ярких солнечных лучах. Значит, скоро весна! А пока еще холодно и случаются морозы. 23 февраля не забываем поздравить своих пап с мужским праздником. А в самом конце месяца наступает масленица. Мамы пекут блины, и все мы с удовольствием их ед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мы празднуем в февра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ледняя неделя февра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Праздник Масленицы. Всю неделю пекут блины, устраивают народные гуляния и провожают зи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476280" y="1332000"/>
            <a:ext cx="5689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евра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яц зимний, холодный с вьюгами и метелями, но солнце в ясные дни начинает незаметно пригревать, от того февраль в народном календаре получил название - месяц бокогрей. В этом месяце на самое Сретенье - зима с весной встречается, а заканчивается месяц февраль большими народными гуляниями на праздник широкой Масле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в феврале начинает пригревать, от этого и название месяца - бокогрей. Дни становятся длинее, дело к весне идет. Следят внимательно погодоведы за изменениями в природе с самых первых чисел февраля. Какая весна будет, ранняя или поздняя? Со Сретенья зима с весной встречаются, а завершается зима праздником Маслениц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836640" y="1692360"/>
            <a:ext cx="55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евраль в народном календар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Февраль межень - между зимой и весной.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Февраль сечень - сечет зиму пополам.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Февраль сшибает рог зиме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 феврале зима с весной встречаются 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У февраля два друга - друг метель и подруга вьюга.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2349360" y="900000"/>
            <a:ext cx="203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Monotype Corsiva"/>
              </a:rPr>
              <a:t>Загад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1484280" y="1617840"/>
            <a:ext cx="4681440" cy="72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мешками валит с неб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ом стоят сугробы снег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бураны и метели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еревню налетел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очам мороз силен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ём капели слышен зво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прибавился заметн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так что за месяц это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й зимний месяц жал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ий самый он - ..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836640" y="1187280"/>
            <a:ext cx="525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личья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маю о белках понятно, если большой запас, ты помнишь о нем легко, но мы видим сейчас по следам, что вот здесь белка через снег пробилась в мох, достала спрятанные там с осени два ореха, тут же их съела, потом, отбежав десяток метров, опять нырнула, опять оставила в снегу скорлупу от двух-трех орехов и через несколько метров сделала третью полазку. Нельзя же предположить, что она чуяла орех через талый слой снега и обмерзлого льда. Значит, помнила с осени о двух орехах во мху в стольких-то сантиметрах от ели. Притом, помня, она могла не отмеривать сантиметры, а прямо на глаз с точностью определять: ныряла и достав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М. Приш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4T08:37:14Z</dcterms:created>
  <dc:creator>Компас</dc:creator>
  <dc:description/>
  <dc:language>en-US</dc:language>
  <cp:lastModifiedBy>Компас</cp:lastModifiedBy>
  <dcterms:modified xsi:type="dcterms:W3CDTF">2012-07-14T10:45:05Z</dcterms:modified>
  <cp:revision>5</cp:revision>
  <dc:subject/>
  <dc:title>Слайд 1</dc:title>
</cp:coreProperties>
</file>