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49B-317B-4A20-A223-FA1D0563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C61-5E17-439D-8F70-771D6AF2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E13-940D-44D7-BDBC-A7CFC864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6F7-091E-4BD3-B14E-8BFDE505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94D-0410-4801-B5DA-8717EE81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FD1-3CF3-4492-97A3-60AB3CED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CD5-96CF-4876-8A25-7814E849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EC7-C22D-4806-B0E1-F7F43300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3F9-6B7E-4903-AF88-18A9488E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BA0-DD24-4CF9-9C68-FBFCB65C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803-DF1C-4523-94D3-267ECEC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87D-A5B3-41F1-9A84-9283A84D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575F-BC2F-49A1-A043-D2E94C48FC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9720" y="8897760"/>
            <a:ext cx="147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с двумя скругленными противолежащими углами 7"/>
          <p:cNvSpPr/>
          <p:nvPr/>
        </p:nvSpPr>
        <p:spPr>
          <a:xfrm>
            <a:off x="189000" y="179280"/>
            <a:ext cx="6480000" cy="8785440"/>
          </a:xfrm>
          <a:custGeom>
            <a:avLst/>
            <a:gdLst>
              <a:gd name="textAreaLeft" fmla="*/ 316080 w 6480000"/>
              <a:gd name="textAreaRight" fmla="*/ 6163920 w 6480000"/>
              <a:gd name="textAreaTop" fmla="*/ 316080 h 8785440"/>
              <a:gd name="textAreaBottom" fmla="*/ 8469360 h 8785440"/>
            </a:gdLst>
            <a:ahLst/>
            <a:rect l="textAreaLeft" t="textAreaTop" r="textAreaRight" b="textAreaBottom"/>
            <a:pathLst>
              <a:path w="6480720" h="8784976">
                <a:moveTo>
                  <a:pt x="1080142" y="0"/>
                </a:moveTo>
                <a:lnTo>
                  <a:pt x="6480720" y="0"/>
                </a:lnTo>
                <a:lnTo>
                  <a:pt x="6480720" y="7704834"/>
                </a:lnTo>
                <a:lnTo>
                  <a:pt x="6480720" y="7704834"/>
                </a:lnTo>
                <a:arcTo wR="1080142" hR="1080142" stAng="0" swAng="5400003"/>
                <a:lnTo>
                  <a:pt x="0" y="8784976"/>
                </a:lnTo>
                <a:lnTo>
                  <a:pt x="0" y="1080142"/>
                </a:lnTo>
                <a:lnTo>
                  <a:pt x="0" y="1080142"/>
                </a:lnTo>
                <a:arcTo wR="1080142" hR="1080142" stAng="-10799997" swAng="5400003"/>
                <a:close/>
              </a:path>
            </a:pathLst>
          </a:custGeom>
          <a:solidFill>
            <a:srgbClr val="ffffff"/>
          </a:solidFill>
          <a:ln w="38160">
            <a:solidFill>
              <a:srgbClr val="00b05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Рисунок 8" descr="6925-Clipart-Picture-Of-A-Leaf-Mascot-Cartoon-Character-Jumping.jpg"/>
          <p:cNvPicPr/>
          <p:nvPr/>
        </p:nvPicPr>
        <p:blipFill>
          <a:blip r:embed="rId2"/>
          <a:stretch/>
        </p:blipFill>
        <p:spPr>
          <a:xfrm>
            <a:off x="5373720" y="324000"/>
            <a:ext cx="1219320" cy="147456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9" descr="6932-Clipart-Picture-Of-A-Leaf-Mascot-Cartoon-Character-Holding-A-Pencil.jpg"/>
          <p:cNvPicPr/>
          <p:nvPr/>
        </p:nvPicPr>
        <p:blipFill>
          <a:blip r:embed="rId3"/>
          <a:stretch/>
        </p:blipFill>
        <p:spPr>
          <a:xfrm>
            <a:off x="260280" y="7380360"/>
            <a:ext cx="1152720" cy="146520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0" descr="0a99f255f80c.png"/>
          <p:cNvPicPr/>
          <p:nvPr/>
        </p:nvPicPr>
        <p:blipFill>
          <a:blip r:embed="rId4"/>
          <a:stretch/>
        </p:blipFill>
        <p:spPr>
          <a:xfrm>
            <a:off x="333360" y="1042920"/>
            <a:ext cx="1060560" cy="619308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1" descr="0a99f255f80c.png"/>
          <p:cNvPicPr/>
          <p:nvPr/>
        </p:nvPicPr>
        <p:blipFill>
          <a:blip r:embed="rId5"/>
          <a:stretch/>
        </p:blipFill>
        <p:spPr>
          <a:xfrm>
            <a:off x="5589720" y="1908000"/>
            <a:ext cx="1060200" cy="626436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2" descr="0a99f255f80c.png"/>
          <p:cNvPicPr/>
          <p:nvPr/>
        </p:nvPicPr>
        <p:blipFill>
          <a:blip r:embed="rId6"/>
          <a:stretch/>
        </p:blipFill>
        <p:spPr>
          <a:xfrm>
            <a:off x="1628640" y="7885080"/>
            <a:ext cx="4638960" cy="106056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13" descr="0a99f255f80c.png"/>
          <p:cNvPicPr/>
          <p:nvPr/>
        </p:nvPicPr>
        <p:blipFill>
          <a:blip r:embed="rId7"/>
          <a:stretch/>
        </p:blipFill>
        <p:spPr>
          <a:xfrm>
            <a:off x="692280" y="179280"/>
            <a:ext cx="4640040" cy="106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azumniki.ru/zagadki_pro_mecyacy_goda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1052640" y="1187280"/>
            <a:ext cx="48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МКОУ «СОШ ст. Евсин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Искитимск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5000" y="2626920"/>
            <a:ext cx="54691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46c0a"/>
                </a:solidFill>
                <a:latin typeface="Monotype Corsiva"/>
              </a:rPr>
              <a:t>Уголок природы «Май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916280" y="6804000"/>
            <a:ext cx="327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Автор-составител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2012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1268280" y="1332000"/>
            <a:ext cx="4681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ай в народном календар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Май лес наряжает, лето в гости поджидает. 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Майская роса - лошадям за место овса 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есь май холодный - зато год обещает плодородным. 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И сухой и мокрый май - будет каша и каравай. 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Егорий (6 мая) весну начинает - Илья (2 августа) лето кончает. 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349360" y="1042920"/>
            <a:ext cx="203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46c0a"/>
                </a:solidFill>
                <a:latin typeface="Monotype Corsiva"/>
              </a:rPr>
              <a:t>Загад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484280" y="1835280"/>
            <a:ext cx="410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еет даль поле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евает солов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лый цвет оделся сад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ёлы первые летя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 грохочет. Угада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месяц это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апотках бежит малыш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шаги его услыш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ежит, и всё цветё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меётся - всё поё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ятал счастье в лепестка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рени на куст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Ландыш мой, благоухай!"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елел весёлый 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971280"/>
            <a:ext cx="61722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Monotype Corsiva"/>
              </a:rPr>
              <a:t>Используемые источни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67920" y="1692000"/>
            <a:ext cx="4464360" cy="64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Источники информац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A%D0%B0%D0%BB%D0%B5%D0%BD%D0%B4%D0%B0%D1%80%D1%8C%20%D0%BF%D1%80%D0%B8%D1%80%D0%BE%D0%B4%D1%8B%20%D0%BC%D0%B0%D0%B9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F%D1%80%D0%B8%D1%80%D0%BE%D0%B4%D0%B0%20%D0%B2%D0%B5%D1%81%D0%BD%D0%BE%D0%B9%20%D0%B4%D0%BB%D1%8F%20%D0%B4%D0%B5%D1%82%D0%B5%D0%B9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D%D0%B0%D1%80%D0%BE%D0%B4%D0%BD%D1%8B%D0%B9%20%D0%BA%D0%B0%D0%BB%D0%B5%D0%BD%D0%B4%D0%B0%D1%80%D1%8C%20%D0%BC%D0%B0%D0%B9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www.razumniki.ru/zagadki_pro_mecyacy_goda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Картин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Листик </a:t>
            </a: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http://images.clipartof.com/thumbnails/6932-Clipart-Picture-Of-A-Leaf-Mascot-Cartoon-Character-Holding-A-Pencil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Листик 1 </a:t>
            </a: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http://images.clipartof.com/thumbnails/6925-Clipart-Picture-Of-A-Leaf-Mascot-Cartoon-Character-Jumping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Виньетка </a:t>
            </a: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http://r.foto.radikal.ru/0704/37/0a99f255f80c.p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Девочка </a:t>
            </a: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http://xn----8sbiecm6bhdx8i.xn--p1ai/sites/default/files/may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989000" y="11872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46c0a"/>
                </a:solidFill>
                <a:latin typeface="Monotype Corsiva"/>
              </a:rPr>
              <a:t>Ма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413000" y="2050920"/>
            <a:ext cx="42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оздух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т +8° C до +19° C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й ден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16 ч. 18 мин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лнце, первые грозы, половодье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я природ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секомые, появление травы, зеленеет береза, цветет черемухи, цветение сирени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1413000" y="1476360"/>
            <a:ext cx="4392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недел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скрытие озер, возможны ранние грозы, солнце резко прибавляет в тепле лучей, из почек обильно появляются первые листья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недел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еревья одеваются в листву, исчезает последний снег, температура воздуха становится стойкой и постоянной, выше +9 +12° C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недел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цветение черемухи, прибавка температуры составляет от +12° C, но ночи все еще холодные, поэтому средняя температура месяца не высока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недел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цветение купальницы, лиловой сирени, обильное цветение многих видов растений, могут устанавливаться жаркие дни с сильными грозами и температурой воздуха свыше +20°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13000" y="1476360"/>
          <a:ext cx="6769080" cy="5965920"/>
        </p:xfrm>
        <a:graphic>
          <a:graphicData uri="http://schemas.openxmlformats.org/drawingml/2006/table">
            <a:tbl>
              <a:tblPr/>
              <a:tblGrid>
                <a:gridCol w="3384360"/>
                <a:gridCol w="3384720"/>
              </a:tblGrid>
              <a:tr h="70920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ываются почки у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б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малины, ольх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1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44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ние гр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2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ываются почки у шиповника, яблони, кл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5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е жужание майских жу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6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ветают береза, тополь, к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7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ываются почки у осины, вишни и груш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8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44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ет ласточ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9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44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одит песню солов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10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орачиваются почки у ду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11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44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еют одуванч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12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орачиваются почки у липы и сли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12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413000" y="1258920"/>
          <a:ext cx="6408720" cy="6481800"/>
        </p:xfrm>
        <a:graphic>
          <a:graphicData uri="http://schemas.openxmlformats.org/drawingml/2006/table">
            <a:tbl>
              <a:tblPr/>
              <a:tblGrid>
                <a:gridCol w="3203280"/>
                <a:gridCol w="3205440"/>
              </a:tblGrid>
              <a:tr h="711000"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ается цветение крыжов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14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360"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ебе появляются стри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14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560"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ут ясень, анютины глаз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15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360"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ет черемуха с бузин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16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560"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ветают яблоня, виш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18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ут яблоня, к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20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ет сир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22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360"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ветает дуб, слива, цветут ландыш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23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ет незабуд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24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ет ряб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25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360"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ветает красный клев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46800" tIns="23400" bIns="23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31 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0" marR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268280" y="1332000"/>
            <a:ext cx="44643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ай - Тра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всюду появляется трава и тянутся к солнцу молодые листья. Вот и полностью очистилась природа от зимы. От снега ничего не осталось, а вокруг зеленеет трава и на деревьях появляются первые зеленые листочки. Послушай! Как заливаются птицы в весеннем лесу, радуются солн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268280" y="147636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устился ландыш в мае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мый праздник - в первый день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 цветами провожая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ускается сир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Марш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" descr="may.jpg"/>
          <p:cNvPicPr/>
          <p:nvPr/>
        </p:nvPicPr>
        <p:blipFill>
          <a:blip r:embed="rId1"/>
          <a:stretch/>
        </p:blipFill>
        <p:spPr>
          <a:xfrm>
            <a:off x="2421000" y="4356000"/>
            <a:ext cx="23875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268280" y="1116000"/>
            <a:ext cx="46087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мы делаем в ма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 начинается с праздника "Первое мая". Это день мира, труда и весны! А следом за ним 9 мая праздник "День Победы". Уже становится тепло и можно пойти гулять в легком пальто. На прогулке посмотрите на деревья, сколько распускается маленьких листочков. Совсем скоро деревья будет не узнать, они все оденутся в зеленые наря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мы празднуем в ма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ма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здник весны и день Труда. В этот день можно много гулять, потому что солнце начинает припекать и появляются цве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м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День Победы. В этот день более полувека назад наши дедушки и прадедушки победили врага, победив зло подарили нам мир, который нам надо ценить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268280" y="1332000"/>
            <a:ext cx="4392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а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стречает многих певчих птиц. Крестьянин к соловью прислушивается, как трель пронесется, так и береза в листья одевается, а следом и весь лес с дня на день зеленью окутывается. Май не всегда теплый месяц, так на цветение черемухи холода возвращаются, а к концу месяца все равно лето установи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в мае одевается в зеленый цвет. Теплое солнце согревает землю, зеленеет молодая травушка, к ласковым лучам тянутся стебельки цветов, деревья облачаются в зеленую листву. По народному календарю приходит время для подготовки грядок: сажают капусту, рассаживают огурцы. Начинают полевые работы: сеют овес, пшеницу, лен, ячме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9T16:30:02Z</dcterms:created>
  <dc:creator>Компас</dc:creator>
  <dc:description/>
  <dc:language>en-US</dc:language>
  <cp:lastModifiedBy>Компас</cp:lastModifiedBy>
  <dcterms:modified xsi:type="dcterms:W3CDTF">2012-07-19T17:00:31Z</dcterms:modified>
  <cp:revision>4</cp:revision>
  <dc:subject/>
  <dc:title>Слайд 1</dc:title>
</cp:coreProperties>
</file>