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A74-5AA2-4E3F-ACF9-BD362E33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B9D-9CDB-4AC5-B79A-B8E8FD8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031-0ECC-4281-B8B4-5FDCA6D2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0EC-E19F-4E19-BFD9-00FF1CF2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6ED-B106-46C9-97E5-2E2C5677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C90-82E2-4C9C-BDBC-509C4793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725-3DC1-4EA0-8EDB-3146DB73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AF3-52C9-43BF-9AE1-7EDD006F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71A-5164-4956-94B4-DEF7857D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A69-CB4F-43CC-805A-F92BD3FF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7ED-A184-4C6B-861C-9D7BE9D3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C21-0F1D-4B79-85C3-E0E9A7E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337F-4266-49F4-8DD8-839FA6006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Скругленный прямоугольник 7"/>
          <p:cNvSpPr/>
          <p:nvPr/>
        </p:nvSpPr>
        <p:spPr>
          <a:xfrm>
            <a:off x="189000" y="179280"/>
            <a:ext cx="6480000" cy="878544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85440"/>
              <a:gd name="textAreaBottom" fmla="*/ 8469360 h 8785440"/>
            </a:gdLst>
            <a:ahLst/>
            <a:rect l="textAreaLeft" t="textAreaTop" r="textAreaRight" b="textAreaBottom"/>
            <a:pathLst>
              <a:path w="21600" h="29284">
                <a:moveTo>
                  <a:pt x="3600" y="0"/>
                </a:moveTo>
                <a:arcTo wR="3600" hR="3600" stAng="16200000" swAng="-5400000"/>
                <a:lnTo>
                  <a:pt x="0" y="25684"/>
                </a:lnTo>
                <a:arcTo wR="3600" hR="3600" stAng="10800000" swAng="-5400000"/>
                <a:lnTo>
                  <a:pt x="18000" y="29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ffc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Рисунок 8" descr="6939-Clipart-Picture-Of-A-Leaf-Mascot-Cartoon-Character-Sitting.jpg"/>
          <p:cNvPicPr/>
          <p:nvPr/>
        </p:nvPicPr>
        <p:blipFill>
          <a:blip r:embed="rId2"/>
          <a:stretch/>
        </p:blipFill>
        <p:spPr>
          <a:xfrm>
            <a:off x="5516640" y="324000"/>
            <a:ext cx="942840" cy="129528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9" descr="6942-Clipart-Picture-Of-A-Leaf-Mascot-Cartoon-Character.jpg"/>
          <p:cNvPicPr/>
          <p:nvPr/>
        </p:nvPicPr>
        <p:blipFill>
          <a:blip r:embed="rId3"/>
          <a:stretch/>
        </p:blipFill>
        <p:spPr>
          <a:xfrm>
            <a:off x="3068640" y="7524720"/>
            <a:ext cx="1030320" cy="120636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0" descr="tsipa50.jpg"/>
          <p:cNvPicPr/>
          <p:nvPr/>
        </p:nvPicPr>
        <p:blipFill>
          <a:blip r:embed="rId4"/>
          <a:stretch/>
        </p:blipFill>
        <p:spPr>
          <a:xfrm>
            <a:off x="4437000" y="6659640"/>
            <a:ext cx="2016360" cy="2135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1" descr="tsipa51.jpg"/>
          <p:cNvPicPr/>
          <p:nvPr/>
        </p:nvPicPr>
        <p:blipFill>
          <a:blip r:embed="rId5"/>
          <a:stretch/>
        </p:blipFill>
        <p:spPr>
          <a:xfrm>
            <a:off x="549360" y="6732720"/>
            <a:ext cx="2448000" cy="220320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3" descr="verba06.jpg"/>
          <p:cNvPicPr/>
          <p:nvPr/>
        </p:nvPicPr>
        <p:blipFill>
          <a:blip r:embed="rId6"/>
          <a:stretch/>
        </p:blipFill>
        <p:spPr>
          <a:xfrm>
            <a:off x="260280" y="6227640"/>
            <a:ext cx="838440" cy="7542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14" descr="verba06.jpg"/>
          <p:cNvPicPr/>
          <p:nvPr/>
        </p:nvPicPr>
        <p:blipFill>
          <a:blip r:embed="rId7"/>
          <a:stretch/>
        </p:blipFill>
        <p:spPr>
          <a:xfrm>
            <a:off x="260280" y="5292720"/>
            <a:ext cx="838440" cy="75420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15" descr="verba06.jpg"/>
          <p:cNvPicPr/>
          <p:nvPr/>
        </p:nvPicPr>
        <p:blipFill>
          <a:blip r:embed="rId8"/>
          <a:stretch/>
        </p:blipFill>
        <p:spPr>
          <a:xfrm>
            <a:off x="333360" y="4284720"/>
            <a:ext cx="836640" cy="75384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16" descr="verba06.jpg"/>
          <p:cNvPicPr/>
          <p:nvPr/>
        </p:nvPicPr>
        <p:blipFill>
          <a:blip r:embed="rId9"/>
          <a:stretch/>
        </p:blipFill>
        <p:spPr>
          <a:xfrm>
            <a:off x="333360" y="3276720"/>
            <a:ext cx="836640" cy="75384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7" descr="verba06.jpg"/>
          <p:cNvPicPr/>
          <p:nvPr/>
        </p:nvPicPr>
        <p:blipFill>
          <a:blip r:embed="rId10"/>
          <a:stretch/>
        </p:blipFill>
        <p:spPr>
          <a:xfrm>
            <a:off x="260280" y="2340000"/>
            <a:ext cx="838440" cy="754200"/>
          </a:xfrm>
          <a:prstGeom prst="rect">
            <a:avLst/>
          </a:prstGeom>
          <a:ln w="0">
            <a:noFill/>
          </a:ln>
        </p:spPr>
      </p:pic>
      <p:pic>
        <p:nvPicPr>
          <p:cNvPr id="16" name="Рисунок 18" descr="verba06.jpg"/>
          <p:cNvPicPr/>
          <p:nvPr/>
        </p:nvPicPr>
        <p:blipFill>
          <a:blip r:embed="rId11"/>
          <a:stretch/>
        </p:blipFill>
        <p:spPr>
          <a:xfrm>
            <a:off x="260280" y="1403280"/>
            <a:ext cx="838440" cy="754200"/>
          </a:xfrm>
          <a:prstGeom prst="rect">
            <a:avLst/>
          </a:prstGeom>
          <a:ln w="0">
            <a:noFill/>
          </a:ln>
        </p:spPr>
      </p:pic>
      <p:pic>
        <p:nvPicPr>
          <p:cNvPr id="17" name="Рисунок 19" descr="verba06.jpg"/>
          <p:cNvPicPr/>
          <p:nvPr/>
        </p:nvPicPr>
        <p:blipFill>
          <a:blip r:embed="rId12"/>
          <a:stretch/>
        </p:blipFill>
        <p:spPr>
          <a:xfrm>
            <a:off x="3716280" y="324000"/>
            <a:ext cx="838080" cy="753840"/>
          </a:xfrm>
          <a:prstGeom prst="rect">
            <a:avLst/>
          </a:prstGeom>
          <a:ln w="0">
            <a:noFill/>
          </a:ln>
        </p:spPr>
      </p:pic>
      <p:pic>
        <p:nvPicPr>
          <p:cNvPr id="18" name="Рисунок 20" descr="verba06.jpg"/>
          <p:cNvPicPr/>
          <p:nvPr/>
        </p:nvPicPr>
        <p:blipFill>
          <a:blip r:embed="rId13"/>
          <a:stretch/>
        </p:blipFill>
        <p:spPr>
          <a:xfrm>
            <a:off x="4653000" y="324000"/>
            <a:ext cx="838080" cy="753840"/>
          </a:xfrm>
          <a:prstGeom prst="rect">
            <a:avLst/>
          </a:prstGeom>
          <a:ln w="0">
            <a:noFill/>
          </a:ln>
        </p:spPr>
      </p:pic>
      <p:pic>
        <p:nvPicPr>
          <p:cNvPr id="19" name="Рисунок 21" descr="verba06.jpg"/>
          <p:cNvPicPr/>
          <p:nvPr/>
        </p:nvPicPr>
        <p:blipFill>
          <a:blip r:embed="rId14"/>
          <a:stretch/>
        </p:blipFill>
        <p:spPr>
          <a:xfrm>
            <a:off x="2637000" y="324000"/>
            <a:ext cx="838080" cy="753840"/>
          </a:xfrm>
          <a:prstGeom prst="rect">
            <a:avLst/>
          </a:prstGeom>
          <a:ln w="0">
            <a:noFill/>
          </a:ln>
        </p:spPr>
      </p:pic>
      <p:pic>
        <p:nvPicPr>
          <p:cNvPr id="20" name="Рисунок 22" descr="verba06.jpg"/>
          <p:cNvPicPr/>
          <p:nvPr/>
        </p:nvPicPr>
        <p:blipFill>
          <a:blip r:embed="rId15"/>
          <a:stretch/>
        </p:blipFill>
        <p:spPr>
          <a:xfrm>
            <a:off x="1557360" y="324000"/>
            <a:ext cx="838080" cy="753840"/>
          </a:xfrm>
          <a:prstGeom prst="rect">
            <a:avLst/>
          </a:prstGeom>
          <a:ln w="0">
            <a:noFill/>
          </a:ln>
        </p:spPr>
      </p:pic>
      <p:pic>
        <p:nvPicPr>
          <p:cNvPr id="21" name="Рисунок 23" descr="verba06.jpg"/>
          <p:cNvPicPr/>
          <p:nvPr/>
        </p:nvPicPr>
        <p:blipFill>
          <a:blip r:embed="rId16"/>
          <a:stretch/>
        </p:blipFill>
        <p:spPr>
          <a:xfrm>
            <a:off x="404640" y="395280"/>
            <a:ext cx="838440" cy="754200"/>
          </a:xfrm>
          <a:prstGeom prst="rect">
            <a:avLst/>
          </a:prstGeom>
          <a:ln w="0">
            <a:noFill/>
          </a:ln>
        </p:spPr>
      </p:pic>
      <p:pic>
        <p:nvPicPr>
          <p:cNvPr id="22" name="Рисунок 25" descr="verba06.jpg"/>
          <p:cNvPicPr/>
          <p:nvPr/>
        </p:nvPicPr>
        <p:blipFill>
          <a:blip r:embed="rId17"/>
          <a:stretch/>
        </p:blipFill>
        <p:spPr>
          <a:xfrm>
            <a:off x="5732640" y="6012000"/>
            <a:ext cx="838080" cy="753840"/>
          </a:xfrm>
          <a:prstGeom prst="rect">
            <a:avLst/>
          </a:prstGeom>
          <a:ln w="0">
            <a:noFill/>
          </a:ln>
        </p:spPr>
      </p:pic>
      <p:pic>
        <p:nvPicPr>
          <p:cNvPr id="23" name="Рисунок 27" descr="verba06.jpg"/>
          <p:cNvPicPr/>
          <p:nvPr/>
        </p:nvPicPr>
        <p:blipFill>
          <a:blip r:embed="rId18"/>
          <a:stretch/>
        </p:blipFill>
        <p:spPr>
          <a:xfrm>
            <a:off x="5732640" y="4788000"/>
            <a:ext cx="838080" cy="753840"/>
          </a:xfrm>
          <a:prstGeom prst="rect">
            <a:avLst/>
          </a:prstGeom>
          <a:ln w="0">
            <a:noFill/>
          </a:ln>
        </p:spPr>
      </p:pic>
      <p:pic>
        <p:nvPicPr>
          <p:cNvPr id="24" name="Рисунок 28" descr="verba06.jpg"/>
          <p:cNvPicPr/>
          <p:nvPr/>
        </p:nvPicPr>
        <p:blipFill>
          <a:blip r:embed="rId19"/>
          <a:stretch/>
        </p:blipFill>
        <p:spPr>
          <a:xfrm>
            <a:off x="5805360" y="3708360"/>
            <a:ext cx="838440" cy="754200"/>
          </a:xfrm>
          <a:prstGeom prst="rect">
            <a:avLst/>
          </a:prstGeom>
          <a:ln w="0">
            <a:noFill/>
          </a:ln>
        </p:spPr>
      </p:pic>
      <p:pic>
        <p:nvPicPr>
          <p:cNvPr id="25" name="Рисунок 29" descr="verba06.jpg"/>
          <p:cNvPicPr/>
          <p:nvPr/>
        </p:nvPicPr>
        <p:blipFill>
          <a:blip r:embed="rId20"/>
          <a:stretch/>
        </p:blipFill>
        <p:spPr>
          <a:xfrm>
            <a:off x="5732640" y="2700360"/>
            <a:ext cx="838080" cy="754200"/>
          </a:xfrm>
          <a:prstGeom prst="rect">
            <a:avLst/>
          </a:prstGeom>
          <a:ln w="0">
            <a:noFill/>
          </a:ln>
        </p:spPr>
      </p:pic>
      <p:pic>
        <p:nvPicPr>
          <p:cNvPr id="26" name="Рисунок 30" descr="verba06.jpg"/>
          <p:cNvPicPr/>
          <p:nvPr/>
        </p:nvPicPr>
        <p:blipFill>
          <a:blip r:embed="rId21"/>
          <a:stretch/>
        </p:blipFill>
        <p:spPr>
          <a:xfrm>
            <a:off x="5805360" y="1692360"/>
            <a:ext cx="838440" cy="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zumniki.ru/zagadki_pro_mecyacy_goda.html" TargetMode="External"/><Relationship Id="rId2" Type="http://schemas.openxmlformats.org/officeDocument/2006/relationships/hyperlink" Target="http://images.clipartof.com/thumbnails/6939-Clipart-Picture-Of-A-Leaf-Mascot-Cartoon-Character-Sitting.jpg" TargetMode="External"/><Relationship Id="rId3" Type="http://schemas.openxmlformats.org/officeDocument/2006/relationships/hyperlink" Target="http://images.clipartof.com/thumbnails/6942-Clipart-Picture-Of-A-Leaf-Mascot-Cartoon-Character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1052640" y="1116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5000" y="2626920"/>
            <a:ext cx="54691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Уголок природы «Март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773360" y="6300720"/>
            <a:ext cx="34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125360" y="1547640"/>
            <a:ext cx="468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рт в народном календар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арт сшибает рог зиме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Рано март весну затягивает - ненадежное тепло. 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Февраль силен метелью, а март – капелью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марте и курица из лужи напьется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артушка - закрутит вертушку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413000" y="1763640"/>
            <a:ext cx="45370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ет тёплый южный ветер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ышко всё ярче свети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худеет, мякнет, т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ч горластый прилета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? Кто узна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ёплых солнечных сапож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гонёчком на застёж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негам бежит мальчиш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ег пугает, шалуниш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ступит - стаял сне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ололся лёд у р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ил его азар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льчишка этот - ..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349360" y="900000"/>
            <a:ext cx="203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Зага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755280"/>
            <a:ext cx="61722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25360" y="1619280"/>
            <a:ext cx="4680000" cy="65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A%D0%B0%D0%BB%D0%B5%D0%BD%D0%B4%D0%B0%D1%80%D1%8C%20%D0%BF%D1%80%D0%B8%D1%80%D0%BE%D0%B4%D1%8B%20%D0%BC%D0%B0%D1%80%D1%8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F%D1%80%D0%B8%D1%80%D0%BE%D0%B4%D0%B0%20%D0%B2%D0%B5%D1%81%D0%BD%D0%BE%D0%B9%20%D0%B4%D0%BB%D1%8F%20%D0%B4%D0%B5%D1%82%D0%B5%D0%B9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D%D0%B0%D1%80%D0%BE%D0%B4%D0%BD%D1%8B%D0%B9%20%D0%BA%D0%B0%D0%BB%D0%B5%D0%BD%D0%B4%D0%B0%D1%80%D1%8C%20%D0%BC%D0%B0%D1%80%D1%8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razumniki.ru/zagadki_pro_mecyacy_god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рти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истик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images.clipartof.com/thumbnails/6939-Clipart-Picture-Of-A-Leaf-Mascot-Cartoon-Character-Sitting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истик 1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images.clipartof.com/thumbnails/6942-Clipart-Picture-Of-A-Leaf-Mascot-Cartoon-Character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ерба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www.lenagold.ru/fon/clipart/v/verb/verba0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ыплёнок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www.lenagold.ru/fon/clipart/tc/tcip/tsipa5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ыплёнок 1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www.lenagold.ru/fon/clipart/tc/tcip/tsipa5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евочка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xn----8sbiecm6bhdx8i.xn--p1ai/sites/default/files/mach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лендарь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xn----8sbiecm6bhdx8i.xn--p1ai/images/calendar_03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989000" y="104292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Мар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1125360" y="1979640"/>
            <a:ext cx="46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 -8° C до 0° C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й ден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11 ч. 54 мин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крый снег с оттепелями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 природ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лет птиц, просыпаются лягушки, цветение лещины, ольхи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125360" y="1116000"/>
            <a:ext cx="47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недел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ркое солнце, таяние снега на открытых участках земли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неделя: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согревает еще холодный воздух и температура близка к нулю ° C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неделя: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таяния снега и частичный прогрев почвы, появление поче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недел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неготаяние, неустойчивость погоды, мокрый снег или яркое солн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97000" y="1042920"/>
          <a:ext cx="5832360" cy="626580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</a:tblGrid>
              <a:tr h="620640"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ет грач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2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3600"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ение почек у вер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2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3240"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мые признаки таяния сне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6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9240"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ажение земли от снега на ровных открытых участк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5840"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признаки кучевых обла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4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3240"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ет жаворонков и скворц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981000" y="1547640"/>
            <a:ext cx="50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рт - Проталь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начинает таять снег и образуются первые проталины. Посмотри, какое яркое солнце делится с нами первыми теплыми лучами! Вот и снег начинает искриться в весенних лучах, еще немного и побегут ручьи, побежит по дорогам шумная 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125360" y="1403280"/>
            <a:ext cx="45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хлый снег темнеет в марте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ют льдинки на окне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чик бегает по парт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карт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арш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mach.jpg"/>
          <p:cNvPicPr/>
          <p:nvPr/>
        </p:nvPicPr>
        <p:blipFill>
          <a:blip r:embed="rId1"/>
          <a:stretch/>
        </p:blipFill>
        <p:spPr>
          <a:xfrm>
            <a:off x="2205000" y="4211640"/>
            <a:ext cx="23763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125360" y="971640"/>
            <a:ext cx="4824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мы делаем в ма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погода еще мокрая, то дождь, то снег, поэтому на улицу, обязательно, надо не забыть взять зонтик. 8 марта международный женский день, а значит поздравляем маму. Несмотря на то, что солнышко пригревает все сильней, воздух еще холодный, поэтому снег будет лежать до самого конца марта, а то и до первых чисел апр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052640" y="118728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мы празднуем в ма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мар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в нашей и во многих других странах отмечается международный женский день. В этот день наши мамы получают от нас подарки. Еще этот день называют Днем Вес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calendar_03.png"/>
          <p:cNvPicPr/>
          <p:nvPr/>
        </p:nvPicPr>
        <p:blipFill>
          <a:blip r:embed="rId1"/>
          <a:stretch/>
        </p:blipFill>
        <p:spPr>
          <a:xfrm>
            <a:off x="1989000" y="5292720"/>
            <a:ext cx="3311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981000" y="900000"/>
            <a:ext cx="4896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р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реломный месяц зимы с весною. О марте говорили, как о месяце на который приходится излом зимы. Смотрели на погоду, думали, как к наступающему теплу готовиться, хозяйство после зимы приводить в поряд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еще много снега, но солнца становится больше, всюду играют ручьи, на небе проплывают первые кучевые облака. По народным приметам: смотрят - какой быть весне, ранней или поздней; встречают Красную весну и начинают задумываться о урожайности предстоящего лета. В марте хороводы заводили, да весну встреч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13:51:41Z</dcterms:created>
  <dc:creator>Компас</dc:creator>
  <dc:description/>
  <dc:language>en-US</dc:language>
  <cp:lastModifiedBy>Компас</cp:lastModifiedBy>
  <dcterms:modified xsi:type="dcterms:W3CDTF">2012-07-18T16:34:58Z</dcterms:modified>
  <cp:revision>8</cp:revision>
  <dc:subject/>
  <dc:title>Слайд 1</dc:title>
</cp:coreProperties>
</file>