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98F-0551-49AC-8B89-73726643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768-AE9A-470D-9908-2E3FD75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7DA-7E64-48B1-82D3-7EAE4C5F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456-3923-4243-A8C4-4A559D07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0EC-9F58-48E5-A7A4-DE2CB99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9EC-9389-4905-8EA9-DE093F40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722-FD42-46DE-9B52-656EABD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FD1-3BF3-45C6-A813-BC43F6CA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108-8E61-4DE4-85A6-941C20B0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5E7-2A04-4E0D-8900-614C67B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B7F-B97B-45D9-B186-E95D416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C03-6B0E-46DA-A0F1-BD819C3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11"/>
          <p:cNvSpPr/>
          <p:nvPr/>
        </p:nvSpPr>
        <p:spPr>
          <a:xfrm>
            <a:off x="189000" y="179280"/>
            <a:ext cx="6480000" cy="871380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13800"/>
              <a:gd name="textAreaBottom" fmla="*/ 8397720 h 8713800"/>
            </a:gdLst>
            <a:ahLst/>
            <a:rect l="textAreaLeft" t="textAreaTop" r="textAreaRight" b="textAreaBottom"/>
            <a:pathLst>
              <a:path w="21600" h="29046">
                <a:moveTo>
                  <a:pt x="3600" y="0"/>
                </a:moveTo>
                <a:arcTo wR="3600" hR="3600" stAng="16200000" swAng="-5400000"/>
                <a:lnTo>
                  <a:pt x="0" y="25446"/>
                </a:lnTo>
                <a:arcTo wR="3600" hR="3600" stAng="10800000" swAng="-5400000"/>
                <a:lnTo>
                  <a:pt x="18000" y="29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2d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694-D568-488C-9121-0C8FE5552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9" descr="6929-Clipart-Picture-Of-A-Leaf-Mascot-Cartoon-Character-Pointing-Upwards.jpg"/>
          <p:cNvPicPr/>
          <p:nvPr/>
        </p:nvPicPr>
        <p:blipFill>
          <a:blip r:embed="rId2"/>
          <a:stretch/>
        </p:blipFill>
        <p:spPr>
          <a:xfrm>
            <a:off x="476280" y="7020000"/>
            <a:ext cx="1224000" cy="161136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2" descr="6939-Clipart-Picture-Of-A-Leaf-Mascot-Cartoon-Character-Sitting.jpg"/>
          <p:cNvPicPr/>
          <p:nvPr/>
        </p:nvPicPr>
        <p:blipFill>
          <a:blip r:embed="rId3"/>
          <a:stretch/>
        </p:blipFill>
        <p:spPr>
          <a:xfrm>
            <a:off x="5373720" y="324000"/>
            <a:ext cx="1017720" cy="14396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5" descr="0_7f7eb_c1ea95ec_XL (1).jpg"/>
          <p:cNvPicPr/>
          <p:nvPr/>
        </p:nvPicPr>
        <p:blipFill>
          <a:blip r:embed="rId4"/>
          <a:stretch/>
        </p:blipFill>
        <p:spPr>
          <a:xfrm>
            <a:off x="5589720" y="680400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6" descr="0_7f7eb_c1ea95ec_XL (1).jpg"/>
          <p:cNvPicPr/>
          <p:nvPr/>
        </p:nvPicPr>
        <p:blipFill>
          <a:blip r:embed="rId5"/>
          <a:stretch/>
        </p:blipFill>
        <p:spPr>
          <a:xfrm>
            <a:off x="260280" y="399564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7" descr="0_7f7eb_c1ea95ec_XL (1).jpg"/>
          <p:cNvPicPr/>
          <p:nvPr/>
        </p:nvPicPr>
        <p:blipFill>
          <a:blip r:embed="rId6"/>
          <a:stretch/>
        </p:blipFill>
        <p:spPr>
          <a:xfrm>
            <a:off x="260280" y="493236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8" descr="0_7f7eb_c1ea95ec_XL (1).jpg"/>
          <p:cNvPicPr/>
          <p:nvPr/>
        </p:nvPicPr>
        <p:blipFill>
          <a:blip r:embed="rId7"/>
          <a:stretch/>
        </p:blipFill>
        <p:spPr>
          <a:xfrm>
            <a:off x="333360" y="5867280"/>
            <a:ext cx="966960" cy="122580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20" descr="0_7f7eb_c1ea95ec_XL (1).jpg"/>
          <p:cNvPicPr/>
          <p:nvPr/>
        </p:nvPicPr>
        <p:blipFill>
          <a:blip r:embed="rId8"/>
          <a:stretch/>
        </p:blipFill>
        <p:spPr>
          <a:xfrm>
            <a:off x="5300640" y="7667640"/>
            <a:ext cx="968400" cy="122544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21" descr="0_7f7eb_c1ea95ec_XL (1).jpg"/>
          <p:cNvPicPr/>
          <p:nvPr/>
        </p:nvPicPr>
        <p:blipFill>
          <a:blip r:embed="rId9"/>
          <a:stretch/>
        </p:blipFill>
        <p:spPr>
          <a:xfrm>
            <a:off x="4292640" y="774072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22" descr="0_7f7eb_c1ea95ec_XL (1).jpg"/>
          <p:cNvPicPr/>
          <p:nvPr/>
        </p:nvPicPr>
        <p:blipFill>
          <a:blip r:embed="rId10"/>
          <a:stretch/>
        </p:blipFill>
        <p:spPr>
          <a:xfrm>
            <a:off x="3357720" y="7740720"/>
            <a:ext cx="966600" cy="1224000"/>
          </a:xfrm>
          <a:prstGeom prst="rect">
            <a:avLst/>
          </a:prstGeom>
          <a:ln w="0">
            <a:noFill/>
          </a:ln>
        </p:spPr>
      </p:pic>
      <p:pic>
        <p:nvPicPr>
          <p:cNvPr id="16" name="Рисунок 23" descr="0_7f7eb_c1ea95ec_XL (1).jpg"/>
          <p:cNvPicPr/>
          <p:nvPr/>
        </p:nvPicPr>
        <p:blipFill>
          <a:blip r:embed="rId11"/>
          <a:stretch/>
        </p:blipFill>
        <p:spPr>
          <a:xfrm>
            <a:off x="2349360" y="774072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17" name="Рисунок 24" descr="0_7f7eb_c1ea95ec_XL (1).jpg"/>
          <p:cNvPicPr/>
          <p:nvPr/>
        </p:nvPicPr>
        <p:blipFill>
          <a:blip r:embed="rId12"/>
          <a:stretch/>
        </p:blipFill>
        <p:spPr>
          <a:xfrm>
            <a:off x="1341360" y="774072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18" name="Рисунок 25" descr="0_7f7eb_c1ea95ec_XL (1).jpg"/>
          <p:cNvPicPr/>
          <p:nvPr/>
        </p:nvPicPr>
        <p:blipFill>
          <a:blip r:embed="rId13"/>
          <a:stretch/>
        </p:blipFill>
        <p:spPr>
          <a:xfrm>
            <a:off x="549360" y="179280"/>
            <a:ext cx="966600" cy="1224000"/>
          </a:xfrm>
          <a:prstGeom prst="rect">
            <a:avLst/>
          </a:prstGeom>
          <a:ln w="0">
            <a:noFill/>
          </a:ln>
        </p:spPr>
      </p:pic>
      <p:pic>
        <p:nvPicPr>
          <p:cNvPr id="19" name="Рисунок 26" descr="0_7f7eb_c1ea95ec_XL (1).jpg"/>
          <p:cNvPicPr/>
          <p:nvPr/>
        </p:nvPicPr>
        <p:blipFill>
          <a:blip r:embed="rId14"/>
          <a:stretch/>
        </p:blipFill>
        <p:spPr>
          <a:xfrm>
            <a:off x="5589720" y="579600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0" name="Рисунок 27" descr="0_7f7eb_c1ea95ec_XL (1).jpg"/>
          <p:cNvPicPr/>
          <p:nvPr/>
        </p:nvPicPr>
        <p:blipFill>
          <a:blip r:embed="rId15"/>
          <a:stretch/>
        </p:blipFill>
        <p:spPr>
          <a:xfrm>
            <a:off x="1628640" y="10800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1" name="Рисунок 28" descr="0_7f7eb_c1ea95ec_XL (1).jpg"/>
          <p:cNvPicPr/>
          <p:nvPr/>
        </p:nvPicPr>
        <p:blipFill>
          <a:blip r:embed="rId16"/>
          <a:stretch/>
        </p:blipFill>
        <p:spPr>
          <a:xfrm>
            <a:off x="4508640" y="17928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2" name="Рисунок 29" descr="0_7f7eb_c1ea95ec_XL (1).jpg"/>
          <p:cNvPicPr/>
          <p:nvPr/>
        </p:nvPicPr>
        <p:blipFill>
          <a:blip r:embed="rId17"/>
          <a:stretch/>
        </p:blipFill>
        <p:spPr>
          <a:xfrm>
            <a:off x="5589720" y="471636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3" name="Рисунок 30" descr="0_7f7eb_c1ea95ec_XL (1).jpg"/>
          <p:cNvPicPr/>
          <p:nvPr/>
        </p:nvPicPr>
        <p:blipFill>
          <a:blip r:embed="rId18"/>
          <a:stretch/>
        </p:blipFill>
        <p:spPr>
          <a:xfrm>
            <a:off x="5589720" y="370836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4" name="Рисунок 31" descr="0_7f7eb_c1ea95ec_XL (1).jpg"/>
          <p:cNvPicPr/>
          <p:nvPr/>
        </p:nvPicPr>
        <p:blipFill>
          <a:blip r:embed="rId19"/>
          <a:stretch/>
        </p:blipFill>
        <p:spPr>
          <a:xfrm>
            <a:off x="5589720" y="270036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5" name="Рисунок 32" descr="0_7f7eb_c1ea95ec_XL (1).jpg"/>
          <p:cNvPicPr/>
          <p:nvPr/>
        </p:nvPicPr>
        <p:blipFill>
          <a:blip r:embed="rId20"/>
          <a:stretch/>
        </p:blipFill>
        <p:spPr>
          <a:xfrm>
            <a:off x="5589720" y="1692360"/>
            <a:ext cx="968400" cy="1224000"/>
          </a:xfrm>
          <a:prstGeom prst="rect">
            <a:avLst/>
          </a:prstGeom>
          <a:ln w="0">
            <a:noFill/>
          </a:ln>
        </p:spPr>
      </p:pic>
      <p:pic>
        <p:nvPicPr>
          <p:cNvPr id="26" name="Рисунок 33" descr="0_7f7eb_c1ea95ec_XL (1).jpg"/>
          <p:cNvPicPr/>
          <p:nvPr/>
        </p:nvPicPr>
        <p:blipFill>
          <a:blip r:embed="rId21"/>
          <a:stretch/>
        </p:blipFill>
        <p:spPr>
          <a:xfrm>
            <a:off x="3573360" y="179280"/>
            <a:ext cx="966960" cy="1224000"/>
          </a:xfrm>
          <a:prstGeom prst="rect">
            <a:avLst/>
          </a:prstGeom>
          <a:ln w="0">
            <a:noFill/>
          </a:ln>
        </p:spPr>
      </p:pic>
      <p:pic>
        <p:nvPicPr>
          <p:cNvPr id="27" name="Рисунок 34" descr="0_7f7eb_c1ea95ec_XL (1).jpg"/>
          <p:cNvPicPr/>
          <p:nvPr/>
        </p:nvPicPr>
        <p:blipFill>
          <a:blip r:embed="rId22"/>
          <a:stretch/>
        </p:blipFill>
        <p:spPr>
          <a:xfrm>
            <a:off x="2637000" y="179280"/>
            <a:ext cx="968040" cy="1224000"/>
          </a:xfrm>
          <a:prstGeom prst="rect">
            <a:avLst/>
          </a:prstGeom>
          <a:ln w="0">
            <a:noFill/>
          </a:ln>
        </p:spPr>
      </p:pic>
      <p:pic>
        <p:nvPicPr>
          <p:cNvPr id="28" name="Рисунок 35" descr="0_7f7eb_c1ea95ec_XL (1).jpg"/>
          <p:cNvPicPr/>
          <p:nvPr/>
        </p:nvPicPr>
        <p:blipFill>
          <a:blip r:embed="rId23"/>
          <a:stretch/>
        </p:blipFill>
        <p:spPr>
          <a:xfrm>
            <a:off x="333360" y="2050920"/>
            <a:ext cx="966960" cy="1225800"/>
          </a:xfrm>
          <a:prstGeom prst="rect">
            <a:avLst/>
          </a:prstGeom>
          <a:ln w="0">
            <a:noFill/>
          </a:ln>
        </p:spPr>
      </p:pic>
      <p:pic>
        <p:nvPicPr>
          <p:cNvPr id="29" name="Рисунок 36" descr="0_7f7eb_c1ea95ec_XL (1).jpg"/>
          <p:cNvPicPr/>
          <p:nvPr/>
        </p:nvPicPr>
        <p:blipFill>
          <a:blip r:embed="rId24"/>
          <a:stretch/>
        </p:blipFill>
        <p:spPr>
          <a:xfrm>
            <a:off x="333360" y="3059280"/>
            <a:ext cx="966960" cy="1225440"/>
          </a:xfrm>
          <a:prstGeom prst="rect">
            <a:avLst/>
          </a:prstGeom>
          <a:ln w="0">
            <a:noFill/>
          </a:ln>
        </p:spPr>
      </p:pic>
      <p:pic>
        <p:nvPicPr>
          <p:cNvPr id="30" name="Рисунок 37" descr="0_7f7eb_c1ea95ec_XL (1).jpg"/>
          <p:cNvPicPr/>
          <p:nvPr/>
        </p:nvPicPr>
        <p:blipFill>
          <a:blip r:embed="rId25"/>
          <a:stretch/>
        </p:blipFill>
        <p:spPr>
          <a:xfrm>
            <a:off x="260280" y="1042920"/>
            <a:ext cx="96840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1b.ucoz.ru/load/kalendar_prirody/osen/sentjabr/16-1-0-24" TargetMode="External"/><Relationship Id="rId2" Type="http://schemas.openxmlformats.org/officeDocument/2006/relationships/hyperlink" Target="http://www.ostrovskazok.ru/ostrovok-9/zagadki-pro-sentyabr" TargetMode="External"/><Relationship Id="rId3" Type="http://schemas.openxmlformats.org/officeDocument/2006/relationships/hyperlink" Target="http://images.clipartof.com/thumbnails/6929-Clipart-Picture-Of-A-Leaf-Mascot-Cartoon-Character-Pointing-Upwards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836640" y="1403280"/>
            <a:ext cx="50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5000" y="2916000"/>
            <a:ext cx="546912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Monotype Corsiva"/>
              </a:rPr>
              <a:t>Уголок природы «Сентябр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916280" y="6732720"/>
            <a:ext cx="327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349360" y="104292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1700280" y="1915560"/>
            <a:ext cx="40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устел колхозный сад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утинки вдаль летя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на южный край зем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янулись журав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спахнулись двери шк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за месяц к нам пришел?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773360" y="6516720"/>
            <a:ext cx="380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лед за августом приходи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листопадом хорово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богат он урожа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го, конечно, зна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341360" y="4211640"/>
            <a:ext cx="401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густ месяц хлопотливый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еют яблоки и слив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еют персики и гру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лько успевай их куша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вот клены во дв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адают в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6" descr="0_7f7eb_c1ea95ec_XL (1).jpg"/>
          <p:cNvPicPr/>
          <p:nvPr/>
        </p:nvPicPr>
        <p:blipFill>
          <a:blip r:embed="rId1"/>
          <a:stretch/>
        </p:blipFill>
        <p:spPr>
          <a:xfrm>
            <a:off x="2276640" y="3780000"/>
            <a:ext cx="528480" cy="471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0_7f7eb_c1ea95ec_XL (1).jpg"/>
          <p:cNvPicPr/>
          <p:nvPr/>
        </p:nvPicPr>
        <p:blipFill>
          <a:blip r:embed="rId2"/>
          <a:stretch/>
        </p:blipFill>
        <p:spPr>
          <a:xfrm>
            <a:off x="3068640" y="3780000"/>
            <a:ext cx="528480" cy="471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0_7f7eb_c1ea95ec_XL (1).jpg"/>
          <p:cNvPicPr/>
          <p:nvPr/>
        </p:nvPicPr>
        <p:blipFill>
          <a:blip r:embed="rId3"/>
          <a:stretch/>
        </p:blipFill>
        <p:spPr>
          <a:xfrm>
            <a:off x="3789360" y="3780000"/>
            <a:ext cx="528480" cy="471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0_7f7eb_c1ea95ec_XL (1).jpg"/>
          <p:cNvPicPr/>
          <p:nvPr/>
        </p:nvPicPr>
        <p:blipFill>
          <a:blip r:embed="rId4"/>
          <a:stretch/>
        </p:blipFill>
        <p:spPr>
          <a:xfrm>
            <a:off x="3860640" y="6084720"/>
            <a:ext cx="528840" cy="47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0_7f7eb_c1ea95ec_XL (1).jpg"/>
          <p:cNvPicPr/>
          <p:nvPr/>
        </p:nvPicPr>
        <p:blipFill>
          <a:blip r:embed="rId5"/>
          <a:stretch/>
        </p:blipFill>
        <p:spPr>
          <a:xfrm>
            <a:off x="3213000" y="6084720"/>
            <a:ext cx="52884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1" descr="0_7f7eb_c1ea95ec_XL (1).jpg"/>
          <p:cNvPicPr/>
          <p:nvPr/>
        </p:nvPicPr>
        <p:blipFill>
          <a:blip r:embed="rId6"/>
          <a:stretch/>
        </p:blipFill>
        <p:spPr>
          <a:xfrm>
            <a:off x="2565360" y="6084720"/>
            <a:ext cx="52884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6280" y="1116000"/>
            <a:ext cx="504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Monotype Corsiva"/>
              </a:rPr>
              <a:t>Используем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1000" y="1476000"/>
            <a:ext cx="431964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1%81%D0%B5%D0%BD%D1%82%D1%8F%D0%B1%D1%80%D1%8C.ht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E%D1%81%D0%B5%D0%BD%D1%8C%D1%8E%20%D0%B4%D0%BB%D1%8F%20%D0%B4%D0%B5%D1%82%D0%B5%D0%B9.ht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1%81%D0%B5%D0%BD%D1%82%D1%8F%D0%B1%D1%80%D1%8C.ht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1b.ucoz.ru/load/kalendar_prirody/osen/sentjabr/16-1-0-2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ostrovskazok.ru/ostrovok-9/zagadki-pro-sentyab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ages.clipartof.com/thumbnails/6929-Clipart-Picture-Of-A-Leaf-Mascot-Cartoon-Character-Pointing-Upwards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Листик 1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Monotype Corsiva"/>
              </a:rPr>
              <a:t>http://images.clipartof.com/thumbnails/6939-Clipart-Picture-Of-A-Leaf-Mascot-Cartoon-Character-Sitting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Листик 2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Monotype Corsiva"/>
              </a:rPr>
              <a:t>http://img-fotki.yandex.ru/get/4519/101695605.74d/0_7f7eb_c1ea95ec_XL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Monotype Corsiva"/>
              </a:rPr>
              <a:t>Листья </a:t>
            </a:r>
            <a:r>
              <a:rPr b="0" lang="en-US" sz="1300" spc="-1" strike="noStrike">
                <a:solidFill>
                  <a:srgbClr val="000000"/>
                </a:solidFill>
                <a:latin typeface="Monotype Corsiva"/>
              </a:rPr>
              <a:t>http://f3.foto.rambler.ru/preview/r/500x354/4b4126d0-4227-27af-c290-b1c4801970de/%D0%9B%D0%B8%D1%81%D1%82%D1%8C%D1%8F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84280" y="2050920"/>
            <a:ext cx="4176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воздух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+7° C до +16° C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етовой ден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12 ч. 42 мин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год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солнце, переменная облачность, моросящие дожди, иней 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вая природ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желтение листьев, отлет птиц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844640" y="1042920"/>
            <a:ext cx="3284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6228"/>
                </a:solidFill>
                <a:latin typeface="Monotype Corsiva"/>
              </a:rPr>
              <a:t>Сентябр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Листья.jpg"/>
          <p:cNvPicPr/>
          <p:nvPr/>
        </p:nvPicPr>
        <p:blipFill>
          <a:blip r:embed="rId1"/>
          <a:stretch/>
        </p:blipFill>
        <p:spPr>
          <a:xfrm>
            <a:off x="1916280" y="5724360"/>
            <a:ext cx="33130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341360" y="1403280"/>
            <a:ext cx="43196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I неделя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 небольшие утренние заморозки после ночи, образование инея, пасмурные дни сменяют непостоянные солнечные, листопад у берез, отлет журавлей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II неделя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 птицы собираются в стаи, заметные пожелтения и первые опадания листьев многих деревьев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III неделя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 заметные изменения цвета листьев, обильный листопад, примерные сроки начало "бабьего лета", иногда возможны даже повышения температуры свыше +19 ° C на солнце, отлет уток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IV неделя: 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холодные фронты и ночные заморозки, постепенно кучевые облака заменяются сплошной пеленой и серой дымкой, примерное окончание "бабьего лета", птицы улетают на юг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341360" y="1187280"/>
          <a:ext cx="6048360" cy="6121440"/>
        </p:xfrm>
        <a:graphic>
          <a:graphicData uri="http://schemas.openxmlformats.org/drawingml/2006/table">
            <a:tbl>
              <a:tblPr/>
              <a:tblGrid>
                <a:gridCol w="3024360"/>
                <a:gridCol w="3024000"/>
              </a:tblGrid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чи собираются в ста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3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вые заморозки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4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ледние возможные гр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2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ен начинает терять 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4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няет листья ореш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5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ябина окрашивает 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8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лтеют листья у липы и бере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9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чало листопада ос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19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няет окраску листьев кл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0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яз полностью теряет 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0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стопад затрагивает и д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0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ина и яблоня меняют окраску лист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1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стью опадают листья у черемухи и л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4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лет журавлей на ю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9160" rIns="29160" tIns="14760" bIns="14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6228"/>
                          </a:solidFill>
                          <a:latin typeface="Arial"/>
                          <a:ea typeface="Arial"/>
                        </a:rPr>
                        <a:t>27 сентяб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9160" marR="29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268280" y="1187280"/>
            <a:ext cx="44643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Arial"/>
                <a:ea typeface="Arial"/>
              </a:rPr>
              <a:t>Сентябрь - Хмурен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погода начинает хмуриться и капризничать. Приглядись-ка к деревьям. Листья пожелтели, некоторые едва-едва, а некоторые совсем желтые и начали уже опадать. Пора одевать куртку и брать с собой зонтик, чтобы не промокнуть. Ведь осенью дождь не такой теплый, как ле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268280" y="1187280"/>
            <a:ext cx="4392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Arial"/>
              </a:rPr>
              <a:t>Что мы делаем в сентяб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ло осени - сентябрь. Это пора бабьего лета, когда сухо и тепло, а природа постепенно готовится к холодам. Самая грибная пора и время, когда можно понаблюдать за тем, как первые птицы готовятся к отлету в теплые края. Если посмотреть в небо, то можно увидеть, как птицы все больше кучкуются и сбиваются в стаи. А в лесу становится тише, листья заметней желтеют и скоро начнется листоп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  <a:ea typeface="Arial"/>
              </a:rPr>
              <a:t>Что мы празднуем в сентяб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 сентяб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- День Знаний. У школьников начинается учебный год, а первоклашки идут в первый раз в школу на Первый Звоно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1268280" y="1403280"/>
            <a:ext cx="446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Arial"/>
                <a:ea typeface="Arial"/>
              </a:rPr>
              <a:t>Сентябрь в народном календар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В сентябре деревья листья роняют. 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 По осени лист реже и птицы тише.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В сентябре одна лишь ягода - рябина, да и то горькая.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Лето ведро воды - ложка грязи; осенью ложка воды - ведро грязи.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Сентябрь идет и дождь за собой ведет.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341360" y="1403280"/>
            <a:ext cx="43912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 первого месяца осени сентябрь произошло от латинского слова "сэптэмбэр", которое означает "седьмой". Новый год у древних римлян начинался с первого марта, а не как у нас - с первого января. Поэтому сентябрь был седьмым месяц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f6228"/>
                </a:solidFill>
                <a:latin typeface="Arial"/>
                <a:ea typeface="Arial"/>
              </a:rPr>
              <a:t>Сентябр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 - хмурень, ревун, руен, вересен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f6228"/>
                </a:solidFill>
                <a:latin typeface="Arial"/>
                <a:ea typeface="Arial"/>
              </a:rPr>
              <a:t>Хмурень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 дни короткие, тучи плотно кроют неб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f6228"/>
                </a:solidFill>
                <a:latin typeface="Arial"/>
                <a:ea typeface="Arial"/>
              </a:rPr>
              <a:t>Ру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 - желтый цв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f6228"/>
                </a:solidFill>
                <a:latin typeface="Arial"/>
                <a:ea typeface="Arial"/>
              </a:rPr>
              <a:t>Ревун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 ветреная погод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f6228"/>
                </a:solidFill>
                <a:latin typeface="Arial"/>
                <a:ea typeface="Arial"/>
              </a:rPr>
              <a:t>Вересень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 месяц первых инее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68280" y="1258920"/>
            <a:ext cx="45370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  <a:ea typeface="Arial"/>
              </a:rPr>
              <a:t>Пословицы, поговорки, приметы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ром в сентябре предвещает теплую осе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нтябрь птиц в дорогу тороп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 лесу много рябины - осень будет дождливая, если ж мало - сух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ентябрь - новосел осени, желтый месяц, златоцв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истья у березы начинают желтеть с верхушки - ждите ранней весны, снизу - позд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ем суше и теплее простоит сентябрь, тем позднее наступит зим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19:38Z</dcterms:created>
  <dc:creator>Компас</dc:creator>
  <dc:description/>
  <dc:language>en-US</dc:language>
  <cp:lastModifiedBy>Компас</cp:lastModifiedBy>
  <dcterms:modified xsi:type="dcterms:W3CDTF">2012-07-10T09:44:51Z</dcterms:modified>
  <cp:revision>10</cp:revision>
  <dc:subject/>
  <dc:title>Слайд 1</dc:title>
</cp:coreProperties>
</file>