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D873-D568-408E-B3D4-352C07B4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02C5-3538-4B06-BF7D-C40673DE6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385A-5490-46E7-8C5B-B7C55A204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3D8E-4A08-4807-A601-36F1E058D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FC45-9E1C-4735-B416-E759D387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3168-27BE-48E7-B7EE-97E59804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4562-E334-4F8B-B6D6-25C0A1AC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2692-EF37-4161-893A-D208398F8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2E94-5878-4830-B2BB-8254CA5C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6A6B-2FCC-43F7-85CB-CB069C72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C1B4-C5EE-4023-9E63-CCE9E52B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C2DA-2101-41C0-85CD-9610AF21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08EB3-4BED-4778-AB25-42F61CA2976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1"/>
          <p:cNvSpPr/>
          <p:nvPr/>
        </p:nvSpPr>
        <p:spPr>
          <a:xfrm>
            <a:off x="9720" y="8897760"/>
            <a:ext cx="147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fbfbf"/>
                </a:solidFill>
                <a:latin typeface="Arial"/>
                <a:ea typeface="Calibri"/>
              </a:rPr>
              <a:t>FokinaLida.75@mail.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с двумя вырезанными противолежащими углами 7"/>
          <p:cNvSpPr/>
          <p:nvPr/>
        </p:nvSpPr>
        <p:spPr>
          <a:xfrm rot="16200000">
            <a:off x="-963360" y="1332000"/>
            <a:ext cx="8785440" cy="6480000"/>
          </a:xfrm>
          <a:custGeom>
            <a:avLst/>
            <a:gdLst>
              <a:gd name="textAreaLeft" fmla="*/ 540000 w 8785440"/>
              <a:gd name="textAreaRight" fmla="*/ 8245440 w 8785440"/>
              <a:gd name="textAreaTop" fmla="*/ 540000 h 6480000"/>
              <a:gd name="textAreaBottom" fmla="*/ 5940000 h 6480000"/>
            </a:gdLst>
            <a:ahLst/>
            <a:rect l="textAreaLeft" t="textAreaTop" r="textAreaRight" b="textAreaBottom"/>
            <a:pathLst>
              <a:path w="8785225" h="6480175">
                <a:moveTo>
                  <a:pt x="0" y="0"/>
                </a:moveTo>
                <a:lnTo>
                  <a:pt x="7705174" y="0"/>
                </a:lnTo>
                <a:lnTo>
                  <a:pt x="8785225" y="1080051"/>
                </a:lnTo>
                <a:lnTo>
                  <a:pt x="8785225" y="6480175"/>
                </a:lnTo>
                <a:lnTo>
                  <a:pt x="8785225" y="6480175"/>
                </a:lnTo>
                <a:lnTo>
                  <a:pt x="1080051" y="6480175"/>
                </a:lnTo>
                <a:lnTo>
                  <a:pt x="0" y="540012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b0f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Рисунок 8" descr="6926-Clipart-Picture-Of-A-Leaf-Mascot-Cartoon-Character-With-A-Snowman-On-Christmas.jpg"/>
          <p:cNvPicPr/>
          <p:nvPr/>
        </p:nvPicPr>
        <p:blipFill>
          <a:blip r:embed="rId2"/>
          <a:stretch/>
        </p:blipFill>
        <p:spPr>
          <a:xfrm>
            <a:off x="260280" y="7020000"/>
            <a:ext cx="1905120" cy="1879560"/>
          </a:xfrm>
          <a:prstGeom prst="rect">
            <a:avLst/>
          </a:prstGeom>
          <a:ln w="0">
            <a:noFill/>
          </a:ln>
        </p:spPr>
      </p:pic>
      <p:pic>
        <p:nvPicPr>
          <p:cNvPr id="8" name="Рисунок 9" descr="6925-Clipart-Picture-Of-A-Leaf-Mascot-Cartoon-Character-Jumping.jpg"/>
          <p:cNvPicPr/>
          <p:nvPr/>
        </p:nvPicPr>
        <p:blipFill>
          <a:blip r:embed="rId3"/>
          <a:stretch/>
        </p:blipFill>
        <p:spPr>
          <a:xfrm>
            <a:off x="5589720" y="250920"/>
            <a:ext cx="1025280" cy="12412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2" descr="C:\Users\Компас\Pictures\sneg47.gif"/>
          <p:cNvPicPr/>
          <p:nvPr/>
        </p:nvPicPr>
        <p:blipFill>
          <a:blip r:embed="rId4"/>
          <a:stretch/>
        </p:blipFill>
        <p:spPr>
          <a:xfrm>
            <a:off x="189000" y="1187280"/>
            <a:ext cx="768240" cy="230508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2" descr="C:\Users\Компас\Pictures\sneg47.gif"/>
          <p:cNvPicPr/>
          <p:nvPr/>
        </p:nvPicPr>
        <p:blipFill>
          <a:blip r:embed="rId5"/>
          <a:stretch/>
        </p:blipFill>
        <p:spPr>
          <a:xfrm>
            <a:off x="260280" y="3995640"/>
            <a:ext cx="768600" cy="2232000"/>
          </a:xfrm>
          <a:prstGeom prst="rect">
            <a:avLst/>
          </a:prstGeom>
          <a:ln w="0">
            <a:noFill/>
          </a:ln>
        </p:spPr>
      </p:pic>
      <p:pic>
        <p:nvPicPr>
          <p:cNvPr id="11" name="Picture 2" descr="C:\Users\Компас\Pictures\sneg47.gif"/>
          <p:cNvPicPr/>
          <p:nvPr/>
        </p:nvPicPr>
        <p:blipFill>
          <a:blip r:embed="rId6"/>
          <a:stretch/>
        </p:blipFill>
        <p:spPr>
          <a:xfrm>
            <a:off x="5805360" y="1619280"/>
            <a:ext cx="768600" cy="2232000"/>
          </a:xfrm>
          <a:prstGeom prst="rect">
            <a:avLst/>
          </a:prstGeom>
          <a:ln w="0">
            <a:noFill/>
          </a:ln>
        </p:spPr>
      </p:pic>
      <p:pic>
        <p:nvPicPr>
          <p:cNvPr id="12" name="Picture 2" descr="C:\Users\Компас\Pictures\sneg47.gif"/>
          <p:cNvPicPr/>
          <p:nvPr/>
        </p:nvPicPr>
        <p:blipFill>
          <a:blip r:embed="rId7"/>
          <a:stretch/>
        </p:blipFill>
        <p:spPr>
          <a:xfrm>
            <a:off x="5805360" y="4572000"/>
            <a:ext cx="768600" cy="20876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Компас\Pictures\sneg47.gif"/>
          <p:cNvPicPr/>
          <p:nvPr/>
        </p:nvPicPr>
        <p:blipFill>
          <a:blip r:embed="rId8"/>
          <a:stretch/>
        </p:blipFill>
        <p:spPr>
          <a:xfrm>
            <a:off x="3429000" y="8101080"/>
            <a:ext cx="2303640" cy="768240"/>
          </a:xfrm>
          <a:prstGeom prst="rect">
            <a:avLst/>
          </a:prstGeom>
          <a:ln w="0">
            <a:noFill/>
          </a:ln>
        </p:spPr>
      </p:pic>
      <p:pic>
        <p:nvPicPr>
          <p:cNvPr id="14" name="Picture 2" descr="C:\Users\Компас\Pictures\sneg47.gif"/>
          <p:cNvPicPr/>
          <p:nvPr/>
        </p:nvPicPr>
        <p:blipFill>
          <a:blip r:embed="rId9"/>
          <a:stretch/>
        </p:blipFill>
        <p:spPr>
          <a:xfrm>
            <a:off x="1125360" y="250920"/>
            <a:ext cx="2159280" cy="768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azumniki.ru/zagadki_pro_mecyacy_goda.html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2"/>
          <p:cNvSpPr/>
          <p:nvPr/>
        </p:nvSpPr>
        <p:spPr>
          <a:xfrm>
            <a:off x="1052640" y="971640"/>
            <a:ext cx="486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МКОУ «СОШ ст. Евсин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Искитим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Новосиби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5000" y="2626920"/>
            <a:ext cx="5469120" cy="302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f0"/>
                </a:solidFill>
                <a:latin typeface="Monotype Corsiva"/>
              </a:rPr>
              <a:t>Уголок природы «Январь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4"/>
          <p:cNvSpPr/>
          <p:nvPr/>
        </p:nvSpPr>
        <p:spPr>
          <a:xfrm>
            <a:off x="1916280" y="7020000"/>
            <a:ext cx="3278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Автор-составител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Фокина Лидия Петро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учитель начальных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Monotype Corsiva"/>
              </a:rPr>
              <a:t>2012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2349360" y="900000"/>
            <a:ext cx="2033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b0f0"/>
                </a:solidFill>
                <a:latin typeface="Monotype Corsiva"/>
              </a:rPr>
              <a:t>Загадк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1844640" y="1692360"/>
            <a:ext cx="374508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т календарь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яц с именем ...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иплет уши, щиплет нос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зет в валенки мороз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ызнешь воду - упадёт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вода уже, а лёд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же птице не летится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мороза стынет птица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рнуло солнце к лету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, скажи, за месяц это?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чёту первым он идёт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его начнётся новый год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ой скорее календарь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тай! Написано - ..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755640"/>
            <a:ext cx="61722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b0f0"/>
                </a:solidFill>
                <a:latin typeface="Monotype Corsiva"/>
              </a:rPr>
              <a:t>Используемые источни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907560" y="1476000"/>
            <a:ext cx="4969080" cy="66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Источники информа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Monotype Corsiva"/>
              </a:rPr>
              <a:t>http://xn----8sbiecm6bhdx8i.xn--p1ai/%D0%BA%D0%B0%D0%BB%D0%B5%D0%BD%D0%B4%D0%B0%D1%80%D1%8C%20%D0%BF%D1%80%D0%B8%D1%80%D0%BE%D0%B4%D1%8B%20%D1%8F%D0%BD%D0%B2%D0%B0%D1%80%D1%8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Monotype Corsiva"/>
              </a:rPr>
              <a:t>http://xn----8sbiecm6bhdx8i.xn--p1ai/%D0%BF%D1%80%D0%B8%D1%80%D0%BE%D0%B4%D0%B0%20%D0%B7%D0%B8%D0%BC%D0%BE%D0%B9%20%D0%B4%D0%BB%D1%8F%20%D0%B4%D0%B5%D1%82%D0%B5%D0%B9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Monotype Corsiva"/>
              </a:rPr>
              <a:t>http://xn----8sbiecm6bhdx8i.xn--p1ai/%D0%BD%D0%B0%D1%80%D0%BE%D0%B4%D0%BD%D1%8B%D0%B9%20%D0%BA%D0%B0%D0%BB%D0%B5%D0%BD%D0%B4%D0%B0%D1%80%D1%8C%20%D1%8F%D0%BD%D0%B2%D0%B0%D1%80%D1%8C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Monotype Corsiva"/>
                <a:hlinkClick r:id="rId1"/>
              </a:rPr>
              <a:t>http://www.razumniki.ru/zagadki_pro_mecyacy_goda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otype Corsiva"/>
              </a:rPr>
              <a:t>Картин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Листик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http://images.clipartof.com/thumbnails/6925-Clipart-Picture-Of-A-Leaf-Mascot-Cartoon-Character-Jumping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Листик со Снеговиком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http://images.clipartof.com/thumbnails/6926-Clipart-Picture-Of-A-Leaf-Mascot-Cartoon-Character-With-A-Snowman-On-Christmas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Снежинки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http://www.lenagold.ru/fon/clipart/s/sneg/sneg47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Календарь 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http://xn----8sbiecm6bhdx8i.xn--p1ai/images/calendar_01.p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"/>
          <p:cNvSpPr/>
          <p:nvPr/>
        </p:nvSpPr>
        <p:spPr>
          <a:xfrm>
            <a:off x="1989000" y="1042920"/>
            <a:ext cx="2737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b0f0"/>
                </a:solidFill>
                <a:latin typeface="Monotype Corsiva"/>
              </a:rPr>
              <a:t>Январ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"/>
          <p:cNvSpPr/>
          <p:nvPr/>
        </p:nvSpPr>
        <p:spPr>
          <a:xfrm>
            <a:off x="981000" y="2050920"/>
            <a:ext cx="5112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пература воздух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-16° C до -9° C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товой день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6 ч. 54 мин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Ясное солнце, морозы, снежные метели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ая природа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Зимние птицы-гости свиристель, клест, пение синиц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Прямоугольник 1"/>
          <p:cNvSpPr/>
          <p:nvPr/>
        </p:nvSpPr>
        <p:spPr>
          <a:xfrm>
            <a:off x="981000" y="1258920"/>
            <a:ext cx="5184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неделя – II неделя: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авливаются сухие и умеренные морозы временами метели, температура сильно не колеблется, без резких скачков и падений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I неделя - IV недел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щенские морозы, не резкое, но существенное падение температуры за отметку - 20° C, небо очищается от обла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Прямоугольник 1"/>
          <p:cNvSpPr/>
          <p:nvPr/>
        </p:nvSpPr>
        <p:spPr>
          <a:xfrm>
            <a:off x="981000" y="1619280"/>
            <a:ext cx="4751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Январь - Просинец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му что январские дни наполнены солнцем. Ударили морозы. Теперь долго на улице не пробудешь, вон какой нос красный! Зато зимнее солнце ярко светит в чистом голубом небе, но складывается ощущение, что от этого еще мороз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981000" y="1476360"/>
            <a:ext cx="4896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ываем календарь -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ется январ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, в январе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 снегу на дво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г - на крыше, на крылечке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нце в небе голубом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м доме топят печки.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бо дым идет столб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Марш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Рисунок 2" descr="calendar_01.png"/>
          <p:cNvPicPr/>
          <p:nvPr/>
        </p:nvPicPr>
        <p:blipFill>
          <a:blip r:embed="rId1"/>
          <a:stretch/>
        </p:blipFill>
        <p:spPr>
          <a:xfrm>
            <a:off x="3716280" y="1403280"/>
            <a:ext cx="25923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оугольник 1"/>
          <p:cNvSpPr/>
          <p:nvPr/>
        </p:nvSpPr>
        <p:spPr>
          <a:xfrm>
            <a:off x="1052640" y="1258920"/>
            <a:ext cx="48243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Что мы делаем в янва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 Новый Год! Праздничное настроение! Ёлка, дед мороз со снегурочкой и подарки! А еще трескучий мороз. В январе морозы, особенно, сильные и долго не погуляешь, зато, как краснеют щеки при катании с горки. И еще можно играть в снежки. правда, чем становится холодней, тем снег не такой липкий, но тогда можно кататься на лыж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оугольник 1"/>
          <p:cNvSpPr/>
          <p:nvPr/>
        </p:nvSpPr>
        <p:spPr>
          <a:xfrm>
            <a:off x="1052640" y="1403280"/>
            <a:ext cx="4968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Что мы празднуем в янва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январ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Со звоном курантов наступает Новый Год. Можно заглянуть под ёлку, чтобы найти долгожданные подар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 январ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Рождество Христово. Православный мир встречает светлый праздник Рождения Хри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3 январ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По старому календарю это день нового года, а по сложившейся современной традиции в этот день провожают старый новый го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836640" y="971640"/>
            <a:ext cx="5184720" cy="63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Январь 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озный месяц с ярким солнцем и чистым голубым небом. Дни до нового года и после в народном календаре звались Святками. В январе православная церковь отмечает Великий праздник Рождества Христова. Наслыхан этот месяц святочными гаданиями: рабочее население на урожай гадали, молодые девушки на суженого своего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январе солнца больше, чем в предыдущем зимнем месяце. Больше и трескучей становится морозных дней. Все половина января в народном календаре отдана Святкам. Грядет и большой церковный праздник - Рождество Христово. На Руси днями устраивают санные катания и зимние торжества, ночами в святочные вечера девушки гадают, а с января до самой Масленицы устраивают праздники и справляют свадьб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"/>
          <p:cNvSpPr/>
          <p:nvPr/>
        </p:nvSpPr>
        <p:spPr>
          <a:xfrm>
            <a:off x="1125360" y="1403280"/>
            <a:ext cx="4680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Январь в народном календар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Новый год - к весне поворот.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Зиме половина – январь.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Январь сухой, да морозный - лето жаркое будет.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олуние в январе - к перемене погоды.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Январь - начало года, солнце на лето смотрит.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1T13:02:20Z</dcterms:created>
  <dc:creator>Компас</dc:creator>
  <dc:description/>
  <dc:language>en-US</dc:language>
  <cp:lastModifiedBy>Компас</cp:lastModifiedBy>
  <dcterms:modified xsi:type="dcterms:W3CDTF">2012-07-14T08:34:49Z</dcterms:modified>
  <cp:revision>6</cp:revision>
  <dc:subject/>
  <dc:title>Слайд 1</dc:title>
</cp:coreProperties>
</file>